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79.png" ContentType="image/png"/>
  <Override PartName="/ppt/media/image101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BE225-979E-458D-B3D9-42A7596F601F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6C73-1053-4350-A306-013391C4D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EC4A-736E-430F-8497-B2072CBF7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C6F7F3-2B00-4ECB-A7D6-C67B195AF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696BF8-BFFD-408A-82D3-E0A8390DB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88DDD6-8B53-45FE-876D-A6395B0BC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403087-FDE0-4FE8-A697-7FFA0B07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8D1C68-603A-48DB-8425-7EB30167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5EC01F-E95D-41D8-9192-02984F70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03C44F-0CB3-4B4E-9E3E-1689F0168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84CF8C-D7D5-4A83-8DE3-220028AAA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44A490-192D-4156-9DC0-A38AC2F6D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BAE465-2A8C-44E6-B030-0628D93A7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A500-C727-4401-8A01-2DA0AA970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D2634C-A1E0-423E-B802-02AAFE769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9642D6-3524-4F55-9409-741DE6809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0433EA-8F77-41CA-BDE2-206F51272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EDB8FA-A52A-44CA-950C-396182503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214218-3DBC-4230-920E-FD495E068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F4B672-0472-4FA3-B8E9-DC1BFF84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362A72-2386-48CE-BB78-82B3B80E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EFC11B-F8C5-4D27-8B74-8A0950D0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9910C1-3F26-4D26-9A5E-CBB6BC7B4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966F4E-71DD-46F9-9B18-2250B4F20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B6C8-B7E1-452F-9C63-6AD1B5130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B43C27-55D9-4580-A5B2-ADFED01EF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98FAAF-B009-43A6-B6D1-8B0409CF5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3B2CFF-37D2-4567-ACAA-1A377D47A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190660-28DB-4BCB-B706-61FF6277F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736E83-5CA3-434A-9FEE-47BC4B02A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09515B-EDF7-4C2D-8621-944588EB4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A6B6AB-2C22-4500-817F-6627B14A3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92F754-976B-4D9F-A240-052BCE7E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EB8845-F421-4D86-A9FA-FE06255F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6403BE-7CE5-4E83-B207-080494E8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80527-6924-4257-B8D7-6254914FD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270D5A-E9A2-4A60-9B60-E8E190B5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73DEED-705F-4B1A-8D48-FC9076094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4D9AA9-855F-46C3-8A82-A93D88BA6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FBBE58-693B-4164-99FD-752EAD368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40024B-3349-4901-9484-D20AFD745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B37964-B50B-42CD-B249-120501F1B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EA3C3D-8726-4616-8CB5-967821F25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C898AE-3395-4A92-A49D-44C57B5EC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B3E360-D2DE-4BA6-8E73-178CBD3E3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B9D9BF-9616-4025-B1BB-0B97C6BF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78609-3B81-4A6D-92F1-16F5E1678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F8B473-0D18-4E07-BAA6-C9410672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0D3775-32CE-4813-ADF6-BD0F79D3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798124-ADF4-4C7D-9DD2-C6D096E27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9B9895-C3E6-4142-9267-1DFEDC19C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44911C-7E81-4F09-8D36-A3761E6BD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251FCA1-D49A-4C33-9084-2E9A25A9F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7727ACD-0CD0-4B3A-B2BE-09741915A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3AFA456-3CAB-40FB-839C-95132A318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934B8F3-A305-40F1-89C1-E0B685D21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F189C24-2E35-44CF-87EA-28DA1EED1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14268-2437-48E7-A31A-E9FB15992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B090431-124A-42CF-BE49-229B48CC3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FE04B65-334B-4097-8D09-B64B7B27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7B75434-AB3D-4D6D-B658-415F789B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7993031-5164-4B51-9E83-24ED0C51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10372B6-0DE4-444D-B011-7F8F31DA2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85E4CE9-0CC0-4192-92E9-94433581B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8DA07A6-30B3-41AB-9A91-50F035206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A1AE7-0CC4-4CC2-98F6-AC4CE047A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0F60D-C181-46D8-9908-839314409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2CECA-1037-4467-8589-EFDAFF5B4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6011B-D144-45CE-9015-6F052ED7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2CBD-861F-4BD8-B600-EA190CA30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7E8F5-3E8D-4973-A9B6-F7894A0B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6FE5F-FF58-4D85-B7B0-4E90AD2A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8DE23-BE44-4F51-AA90-7F7568E2C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30143-053C-403B-8F7A-DA8DDCBA3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7E150-B51F-44A1-A0B2-1A2033F00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206F2-17EC-463E-A2F1-596826DFD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EA3E6-04F4-42FA-BB26-DADF49B8E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BB044-7B05-49FB-AB59-D706DC8F6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00473-9CD4-4FD0-8316-112670119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D105F-EEA5-43A2-B128-70BFF5CF5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97A2-D29E-465F-8BE6-FA865F112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7EF45-FE40-4A3E-8C56-86E97EA0F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CBD80-57F1-4AFE-9D25-9AC67B4B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7242D-5057-40F1-9F25-A7325ED8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44510-9F19-4488-AB8C-FB456470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DD75E-8D68-435A-A8ED-136122FA1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9F292-8B29-4843-895F-3718B0CED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58B54-B4FE-40FF-BE63-690F6CF3E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24611-C348-45B7-BB17-CD0B0A48A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0AC6D-506C-41E0-BE41-BBCEFC562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BB64D-DC65-434A-A534-F85C9DD41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BE7B-948D-4F76-9566-799F68377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02C7B-81B0-4704-8C57-D79541733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D5E58-FFD7-4344-9075-F9B879A96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08DDE-3D32-425B-AC3E-0B16076C7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41AEA-188F-4A91-953C-2FC19783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5FE4F-4C87-4C28-AC99-FB1BA2B0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6111D-B5E6-4C50-877A-8DBA74D5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AF24B-FC7C-48C0-B467-946BA7F98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02CDC-3D16-40CF-99AA-718143F42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E15C0-9C66-4EEC-A9F9-4FC853F85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42FEE-D38A-40B4-8CBA-4ADD2FF29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A44E-CA40-4FDA-BC1F-B5651CF47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33429-071C-44CA-9839-E6C475938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9A0D18-8FF5-4A62-A2CF-522ECDB79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2CBE7-0860-4A82-986C-2DC3E8E6C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C9120-0745-4B03-9B5B-F31400256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3BF39-D361-4B92-BB4A-F5165765C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FD39E-DC0E-4807-AE6A-C68D6BDE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06208-3FE7-47DD-80B7-8B036C25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ABF99-BF6E-495E-9B02-F7F589CE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735AC1-380D-4622-87A5-0567AB756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08C1B-42C4-4D05-A38D-F5FA01458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5724-8602-4B2D-BB48-F69ED96C2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2FE40-411E-4472-A5C4-8A78A74B0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23492A-C494-4439-A589-B7D1E38B9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DA1576-4865-477E-B63A-28A01A42C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A0AB92-34A1-4993-8BAA-FD9B0F7C9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527F03-F4A3-431F-A3C0-40B568517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82111B-3917-45F3-B805-61EA6D3EF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08C300-CA08-4D87-9134-F0FE5DEB4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6ADF6A-DEFB-4CAE-B8EF-D69CEA08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D396D4-1869-41FD-9384-01B4116C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3A19FE-8D50-4CC1-94F9-D0FA787A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878C-1BB3-4D03-A806-A6B9C82B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488793-B5F5-45CD-81DE-8EFA9EE19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0F8BC1-6017-4D74-9C55-850029704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FE7954-8F1D-4884-9633-9B1A80FE6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F684AC-CF38-42ED-A42C-FA0B6D9F1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6BA1F3-E722-450B-9376-3191AA332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E9F5D0-FFE9-4A82-B4B7-6D8A91033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9F88A-100B-4FFB-95AD-55140F9CC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8EDC8E-245B-422B-AE54-E795D146A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71340B-47CB-4063-B78A-81D33ED98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0B04C-32C3-468F-8DA8-F798A459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6A24-0A64-4872-BB09-8D05B25F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AA4C29-C8F5-4762-8311-3126AD7D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3CBF21-AF6D-4A32-BF8C-0B5F89B1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E91C4B-0420-4B9C-9921-24F842871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49FBF-43B9-4E6B-A58E-22C54F1BC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3F9D09-EF20-4CF1-B72D-5BBADE9F1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7F8E2A-A8B9-47EF-AF1C-B265B5BCF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AE14FA-6377-4470-B063-7090C789B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0C3536-2F66-43BF-9127-F4CF40A61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F912A9-FF01-4B1B-A546-8668C6B67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3666F0-2E02-4B40-BF2F-8FEB28625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DB3C-DB67-4260-82BA-6B115C0D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DBD7BD-535F-4123-887C-6C9C2BB69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DFC7F8-352D-4173-82B2-52AA386B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C5063D-0277-4B5F-8579-CFC771BF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80AD7F-5017-4528-BAFD-9379DD4B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843B67-DD0A-4D7A-821A-00270ACF8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0E10C1-847E-47EB-8C2F-EC5E074DF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48BDAA-F1B8-4612-93EE-5594D0232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EE6D07-F302-4AAD-A2DF-0411D9D3C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8D64F9-F6F1-41C7-8727-4B9B330F0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DDA4AE-8125-4288-9833-D09E9A211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0F078-CB25-475E-9C22-B4678BC136B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BB95D-A9D9-4EFB-8716-6FC28FBB338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349EC-A72C-409B-837D-2F2A5CA206B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1BDF6-6EF8-42FE-98DA-2C924A9DACD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9748B-33F0-4028-9DC4-79EACC09AE5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A695C-3780-4C53-9817-4ECA21A8CD8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6E165-4CDA-455A-8C95-3DE74610A46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C5769-7284-4C9D-BDDC-888909DAEE4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8751D-4F98-41B6-AFDE-68E297CB9E7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771A4-8E0B-499D-BBB2-9043226E38F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F9A1A-DAE2-478C-8DCA-1F8E9D21F43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81ABE-40E2-45E7-B618-9E767D6FC88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22029-573F-4D06-B334-688293B2AF8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29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29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6.png"/><Relationship Id="rId9" Type="http://schemas.openxmlformats.org/officeDocument/2006/relationships/image" Target="../media/image29.png"/><Relationship Id="rId10" Type="http://schemas.openxmlformats.org/officeDocument/2006/relationships/image" Target="../media/image51.png"/><Relationship Id="rId11" Type="http://schemas.openxmlformats.org/officeDocument/2006/relationships/image" Target="../media/image52.png"/><Relationship Id="rId1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6.png"/><Relationship Id="rId7" Type="http://schemas.openxmlformats.org/officeDocument/2006/relationships/image" Target="../media/image29.png"/><Relationship Id="rId8" Type="http://schemas.openxmlformats.org/officeDocument/2006/relationships/image" Target="../media/image55.png"/><Relationship Id="rId9" Type="http://schemas.openxmlformats.org/officeDocument/2006/relationships/image" Target="../media/image29.png"/><Relationship Id="rId10" Type="http://schemas.openxmlformats.org/officeDocument/2006/relationships/image" Target="../media/image56.png"/><Relationship Id="rId1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image" Target="../media/image60.png"/><Relationship Id="rId10" Type="http://schemas.openxmlformats.org/officeDocument/2006/relationships/image" Target="../media/image61.png"/><Relationship Id="rId11" Type="http://schemas.openxmlformats.org/officeDocument/2006/relationships/image" Target="../media/image62.png"/><Relationship Id="rId12" Type="http://schemas.openxmlformats.org/officeDocument/2006/relationships/image" Target="../media/image63.png"/><Relationship Id="rId1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8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.png"/><Relationship Id="rId8" Type="http://schemas.openxmlformats.org/officeDocument/2006/relationships/image" Target="../media/image14.png"/><Relationship Id="rId9" Type="http://schemas.openxmlformats.org/officeDocument/2006/relationships/image" Target="../media/image76.png"/><Relationship Id="rId10" Type="http://schemas.openxmlformats.org/officeDocument/2006/relationships/image" Target="../media/image77.png"/><Relationship Id="rId11" Type="http://schemas.openxmlformats.org/officeDocument/2006/relationships/image" Target="../media/image78.png"/><Relationship Id="rId1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2.png"/><Relationship Id="rId9" Type="http://schemas.openxmlformats.org/officeDocument/2006/relationships/image" Target="../media/image83.png"/><Relationship Id="rId10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6.png"/><Relationship Id="rId9" Type="http://schemas.openxmlformats.org/officeDocument/2006/relationships/image" Target="../media/image87.png"/><Relationship Id="rId10" Type="http://schemas.openxmlformats.org/officeDocument/2006/relationships/image" Target="../media/image88.png"/><Relationship Id="rId11" Type="http://schemas.openxmlformats.org/officeDocument/2006/relationships/image" Target="../media/image89.png"/><Relationship Id="rId1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29.png"/><Relationship Id="rId7" Type="http://schemas.openxmlformats.org/officeDocument/2006/relationships/image" Target="../media/image92.png"/><Relationship Id="rId8" Type="http://schemas.openxmlformats.org/officeDocument/2006/relationships/image" Target="../media/image93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image" Target="../media/image96.png"/><Relationship Id="rId5" Type="http://schemas.openxmlformats.org/officeDocument/2006/relationships/image" Target="../media/image97.png"/><Relationship Id="rId6" Type="http://schemas.openxmlformats.org/officeDocument/2006/relationships/image" Target="../media/image98.png"/><Relationship Id="rId7" Type="http://schemas.openxmlformats.org/officeDocument/2006/relationships/image" Target="../media/image99.png"/><Relationship Id="rId8" Type="http://schemas.openxmlformats.org/officeDocument/2006/relationships/image" Target="../media/image100.png"/><Relationship Id="rId9" Type="http://schemas.openxmlformats.org/officeDocument/2006/relationships/image" Target="../media/image101.png"/><Relationship Id="rId10" Type="http://schemas.openxmlformats.org/officeDocument/2006/relationships/image" Target="../media/image102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103.png"/><Relationship Id="rId14" Type="http://schemas.openxmlformats.org/officeDocument/2006/relationships/image" Target="../media/image104.png"/><Relationship Id="rId15" Type="http://schemas.openxmlformats.org/officeDocument/2006/relationships/image" Target="../media/image105.png"/><Relationship Id="rId1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108.png"/><Relationship Id="rId10" Type="http://schemas.openxmlformats.org/officeDocument/2006/relationships/image" Target="../media/image108.png"/><Relationship Id="rId11" Type="http://schemas.openxmlformats.org/officeDocument/2006/relationships/image" Target="../media/image108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5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29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5063760" y="1857240"/>
            <a:ext cx="22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 심리학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943160" y="250020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266CF-F9E4-48A5-9EAC-BC29837F836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5365440" y="3143160"/>
            <a:ext cx="29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의 대안적 모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809240" y="378612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메타인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4807800" y="507204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4681800" y="446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망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6" name="그룹 173"/>
          <p:cNvGrpSpPr/>
          <p:nvPr/>
        </p:nvGrpSpPr>
        <p:grpSpPr>
          <a:xfrm>
            <a:off x="285840" y="1928880"/>
            <a:ext cx="8572320" cy="4357800"/>
            <a:chOff x="285840" y="1928880"/>
            <a:chExt cx="8572320" cy="4357800"/>
          </a:xfrm>
        </p:grpSpPr>
        <p:grpSp>
          <p:nvGrpSpPr>
            <p:cNvPr id="1127" name="그룹 63"/>
            <p:cNvGrpSpPr/>
            <p:nvPr/>
          </p:nvGrpSpPr>
          <p:grpSpPr>
            <a:xfrm>
              <a:off x="285840" y="1928880"/>
              <a:ext cx="8572320" cy="4357800"/>
              <a:chOff x="285840" y="1928880"/>
              <a:chExt cx="8572320" cy="4357800"/>
            </a:xfrm>
          </p:grpSpPr>
          <p:grpSp>
            <p:nvGrpSpPr>
              <p:cNvPr id="1128" name="그룹 91"/>
              <p:cNvGrpSpPr/>
              <p:nvPr/>
            </p:nvGrpSpPr>
            <p:grpSpPr>
              <a:xfrm>
                <a:off x="285840" y="2131920"/>
                <a:ext cx="8572320" cy="4154760"/>
                <a:chOff x="285840" y="2131920"/>
                <a:chExt cx="8572320" cy="4154760"/>
              </a:xfrm>
            </p:grpSpPr>
            <p:pic>
              <p:nvPicPr>
                <p:cNvPr id="112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1920"/>
                  <a:ext cx="8501040" cy="41547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0" name="직사각형 28"/>
                <p:cNvSpPr/>
                <p:nvPr/>
              </p:nvSpPr>
              <p:spPr>
                <a:xfrm>
                  <a:off x="1143000" y="2428560"/>
                  <a:ext cx="7715160" cy="20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새로운 정보를 잘 기억하기 위해 그 정보를 유의미하게 하거나 장기기억에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되어 있는 정보에 관련 짓는 인지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부호화 방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1" name="그룹 44"/>
              <p:cNvGrpSpPr/>
              <p:nvPr/>
            </p:nvGrpSpPr>
            <p:grpSpPr>
              <a:xfrm>
                <a:off x="928440" y="1928880"/>
                <a:ext cx="7574040" cy="505440"/>
                <a:chOff x="928440" y="1928880"/>
                <a:chExt cx="7574040" cy="505440"/>
              </a:xfrm>
            </p:grpSpPr>
            <p:grpSp>
              <p:nvGrpSpPr>
                <p:cNvPr id="1132" name="그룹 91"/>
                <p:cNvGrpSpPr/>
                <p:nvPr/>
              </p:nvGrpSpPr>
              <p:grpSpPr>
                <a:xfrm>
                  <a:off x="928440" y="1928880"/>
                  <a:ext cx="2823840" cy="505440"/>
                  <a:chOff x="928440" y="1928880"/>
                  <a:chExt cx="2823840" cy="505440"/>
                </a:xfrm>
              </p:grpSpPr>
              <p:grpSp>
                <p:nvGrpSpPr>
                  <p:cNvPr id="1133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13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35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6" name="직사각형 24"/>
                  <p:cNvSpPr/>
                  <p:nvPr/>
                </p:nvSpPr>
                <p:spPr>
                  <a:xfrm>
                    <a:off x="1449000" y="1928880"/>
                    <a:ext cx="2303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부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약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,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encod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7" name="직선 연결선 22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8" name="타원 15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39" name="타원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1" name="타원 29"/>
          <p:cNvGrpSpPr/>
          <p:nvPr/>
        </p:nvGrpSpPr>
        <p:grpSpPr>
          <a:xfrm>
            <a:off x="933480" y="3718080"/>
            <a:ext cx="225360" cy="231480"/>
            <a:chOff x="933480" y="3718080"/>
            <a:chExt cx="225360" cy="231480"/>
          </a:xfrm>
        </p:grpSpPr>
        <p:pic>
          <p:nvPicPr>
            <p:cNvPr id="1142" name="타원 29" descr=""/>
            <p:cNvPicPr/>
            <p:nvPr/>
          </p:nvPicPr>
          <p:blipFill>
            <a:blip r:embed="rId5"/>
            <a:stretch/>
          </p:blipFill>
          <p:spPr>
            <a:xfrm>
              <a:off x="933480" y="371808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3" name=""/>
            <p:cNvSpPr/>
            <p:nvPr/>
          </p:nvSpPr>
          <p:spPr>
            <a:xfrm rot="10800000">
              <a:off x="1014480" y="3773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4" name="그룹 30"/>
          <p:cNvGrpSpPr/>
          <p:nvPr/>
        </p:nvGrpSpPr>
        <p:grpSpPr>
          <a:xfrm>
            <a:off x="993600" y="4143240"/>
            <a:ext cx="7777440" cy="1996920"/>
            <a:chOff x="993600" y="4143240"/>
            <a:chExt cx="7777440" cy="1996920"/>
          </a:xfrm>
        </p:grpSpPr>
        <p:grpSp>
          <p:nvGrpSpPr>
            <p:cNvPr id="1145" name="그룹 142"/>
            <p:cNvGrpSpPr/>
            <p:nvPr/>
          </p:nvGrpSpPr>
          <p:grpSpPr>
            <a:xfrm>
              <a:off x="993600" y="4143240"/>
              <a:ext cx="2200680" cy="505440"/>
              <a:chOff x="993600" y="4143240"/>
              <a:chExt cx="2200680" cy="505440"/>
            </a:xfrm>
          </p:grpSpPr>
          <p:grpSp>
            <p:nvGrpSpPr>
              <p:cNvPr id="1146" name="그룹 97"/>
              <p:cNvGrpSpPr/>
              <p:nvPr/>
            </p:nvGrpSpPr>
            <p:grpSpPr>
              <a:xfrm>
                <a:off x="993600" y="4214520"/>
                <a:ext cx="295200" cy="345600"/>
                <a:chOff x="993600" y="4214520"/>
                <a:chExt cx="295200" cy="345600"/>
              </a:xfrm>
            </p:grpSpPr>
            <p:pic>
              <p:nvPicPr>
                <p:cNvPr id="1147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4277880"/>
                  <a:ext cx="283680" cy="282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48" name="TextBox 146"/>
                <p:cNvSpPr/>
                <p:nvPr/>
              </p:nvSpPr>
              <p:spPr>
                <a:xfrm>
                  <a:off x="993600" y="42145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9" name="직사각형 42"/>
              <p:cNvSpPr/>
              <p:nvPr/>
            </p:nvSpPr>
            <p:spPr>
              <a:xfrm>
                <a:off x="1206000" y="4143240"/>
                <a:ext cx="19882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organiz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0" name="직선 연결선 32"/>
            <p:cNvSpPr/>
            <p:nvPr/>
          </p:nvSpPr>
          <p:spPr>
            <a:xfrm>
              <a:off x="4484520" y="4429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1" name="그룹 114"/>
            <p:cNvGrpSpPr/>
            <p:nvPr/>
          </p:nvGrpSpPr>
          <p:grpSpPr>
            <a:xfrm>
              <a:off x="1361880" y="4586040"/>
              <a:ext cx="7409160" cy="1554120"/>
              <a:chOff x="1361880" y="4586040"/>
              <a:chExt cx="7409160" cy="1554120"/>
            </a:xfrm>
          </p:grpSpPr>
          <p:sp>
            <p:nvSpPr>
              <p:cNvPr id="1152" name="직사각형 37"/>
              <p:cNvSpPr/>
              <p:nvPr/>
            </p:nvSpPr>
            <p:spPr>
              <a:xfrm>
                <a:off x="1599120" y="4586040"/>
                <a:ext cx="717192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의미적으로 관련되고 일관성이 있는 범주로 묶는 기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하면 정보들이 체계적으로 관련되어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 전략으로는 도표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도 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념도 등이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아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치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구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괭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양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양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3" name="타원 35"/>
              <p:cNvGrpSpPr/>
              <p:nvPr/>
            </p:nvGrpSpPr>
            <p:grpSpPr>
              <a:xfrm>
                <a:off x="1361880" y="4730040"/>
                <a:ext cx="229320" cy="231480"/>
                <a:chOff x="1361880" y="4730040"/>
                <a:chExt cx="229320" cy="231480"/>
              </a:xfrm>
            </p:grpSpPr>
            <p:pic>
              <p:nvPicPr>
                <p:cNvPr id="1154" name="타원 3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730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5" name=""/>
                <p:cNvSpPr/>
                <p:nvPr/>
              </p:nvSpPr>
              <p:spPr>
                <a:xfrm rot="10800000">
                  <a:off x="1444680" y="47872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6" name="타원 36"/>
              <p:cNvGrpSpPr/>
              <p:nvPr/>
            </p:nvGrpSpPr>
            <p:grpSpPr>
              <a:xfrm>
                <a:off x="1361880" y="5114520"/>
                <a:ext cx="229320" cy="231480"/>
                <a:chOff x="1361880" y="5114520"/>
                <a:chExt cx="229320" cy="231480"/>
              </a:xfrm>
            </p:grpSpPr>
            <p:pic>
              <p:nvPicPr>
                <p:cNvPr id="1157" name="타원 3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5114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8" name=""/>
                <p:cNvSpPr/>
                <p:nvPr/>
              </p:nvSpPr>
              <p:spPr>
                <a:xfrm rot="10800000">
                  <a:off x="1444680" y="5169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9" name="타원 53"/>
              <p:cNvGrpSpPr/>
              <p:nvPr/>
            </p:nvGrpSpPr>
            <p:grpSpPr>
              <a:xfrm>
                <a:off x="1361880" y="5456160"/>
                <a:ext cx="229320" cy="231480"/>
                <a:chOff x="1361880" y="5456160"/>
                <a:chExt cx="229320" cy="231480"/>
              </a:xfrm>
            </p:grpSpPr>
            <p:pic>
              <p:nvPicPr>
                <p:cNvPr id="1160" name="타원 5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361880" y="54561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1" name=""/>
                <p:cNvSpPr/>
                <p:nvPr/>
              </p:nvSpPr>
              <p:spPr>
                <a:xfrm rot="10800000">
                  <a:off x="1444680" y="5515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6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64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6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69" name="Freeform 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2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3" name="그룹 63"/>
          <p:cNvGrpSpPr/>
          <p:nvPr/>
        </p:nvGrpSpPr>
        <p:grpSpPr>
          <a:xfrm>
            <a:off x="285840" y="1928880"/>
            <a:ext cx="8501040" cy="4429080"/>
            <a:chOff x="285840" y="1928880"/>
            <a:chExt cx="8501040" cy="4429080"/>
          </a:xfrm>
        </p:grpSpPr>
        <p:pic>
          <p:nvPicPr>
            <p:cNvPr id="1174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213192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75" name="그룹 44"/>
            <p:cNvGrpSpPr/>
            <p:nvPr/>
          </p:nvGrpSpPr>
          <p:grpSpPr>
            <a:xfrm>
              <a:off x="928440" y="1928880"/>
              <a:ext cx="7574040" cy="505440"/>
              <a:chOff x="928440" y="1928880"/>
              <a:chExt cx="7574040" cy="505440"/>
            </a:xfrm>
          </p:grpSpPr>
          <p:grpSp>
            <p:nvGrpSpPr>
              <p:cNvPr id="1176" name="그룹 91"/>
              <p:cNvGrpSpPr/>
              <p:nvPr/>
            </p:nvGrpSpPr>
            <p:grpSpPr>
              <a:xfrm>
                <a:off x="928440" y="1928880"/>
                <a:ext cx="2823840" cy="505440"/>
                <a:chOff x="928440" y="1928880"/>
                <a:chExt cx="2823840" cy="505440"/>
              </a:xfrm>
            </p:grpSpPr>
            <p:grpSp>
              <p:nvGrpSpPr>
                <p:cNvPr id="1177" name="그룹 34"/>
                <p:cNvGrpSpPr/>
                <p:nvPr/>
              </p:nvGrpSpPr>
              <p:grpSpPr>
                <a:xfrm>
                  <a:off x="928440" y="2032920"/>
                  <a:ext cx="349200" cy="343800"/>
                  <a:chOff x="928440" y="2032920"/>
                  <a:chExt cx="349200" cy="343800"/>
                </a:xfrm>
              </p:grpSpPr>
              <p:pic>
                <p:nvPicPr>
                  <p:cNvPr id="1178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8440" y="2041920"/>
                    <a:ext cx="34920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79" name="TextBox 36"/>
                  <p:cNvSpPr/>
                  <p:nvPr/>
                </p:nvSpPr>
                <p:spPr>
                  <a:xfrm>
                    <a:off x="957960" y="20329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직사각형 24"/>
                <p:cNvSpPr/>
                <p:nvPr/>
              </p:nvSpPr>
              <p:spPr>
                <a:xfrm>
                  <a:off x="1449000" y="1928880"/>
                  <a:ext cx="230328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부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약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,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encoding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직선 연결선 22"/>
              <p:cNvSpPr/>
              <p:nvPr/>
            </p:nvSpPr>
            <p:spPr>
              <a:xfrm flipV="1">
                <a:off x="6286320" y="220140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2" name="그룹 30"/>
          <p:cNvGrpSpPr/>
          <p:nvPr/>
        </p:nvGrpSpPr>
        <p:grpSpPr>
          <a:xfrm>
            <a:off x="996840" y="2395440"/>
            <a:ext cx="7774200" cy="2317320"/>
            <a:chOff x="996840" y="2395440"/>
            <a:chExt cx="7774200" cy="2317320"/>
          </a:xfrm>
        </p:grpSpPr>
        <p:grpSp>
          <p:nvGrpSpPr>
            <p:cNvPr id="1183" name="그룹 142"/>
            <p:cNvGrpSpPr/>
            <p:nvPr/>
          </p:nvGrpSpPr>
          <p:grpSpPr>
            <a:xfrm>
              <a:off x="996840" y="2395440"/>
              <a:ext cx="2066400" cy="505440"/>
              <a:chOff x="996840" y="2395440"/>
              <a:chExt cx="2066400" cy="505440"/>
            </a:xfrm>
          </p:grpSpPr>
          <p:grpSp>
            <p:nvGrpSpPr>
              <p:cNvPr id="1184" name="그룹 97"/>
              <p:cNvGrpSpPr/>
              <p:nvPr/>
            </p:nvGrpSpPr>
            <p:grpSpPr>
              <a:xfrm>
                <a:off x="996840" y="2486880"/>
                <a:ext cx="305640" cy="338400"/>
                <a:chOff x="996840" y="2486880"/>
                <a:chExt cx="305640" cy="338400"/>
              </a:xfrm>
            </p:grpSpPr>
            <p:pic>
              <p:nvPicPr>
                <p:cNvPr id="118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00080" y="2541240"/>
                  <a:ext cx="286200" cy="28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6" name="TextBox 146"/>
                <p:cNvSpPr/>
                <p:nvPr/>
              </p:nvSpPr>
              <p:spPr>
                <a:xfrm>
                  <a:off x="996840" y="24868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직사각형 42"/>
              <p:cNvSpPr/>
              <p:nvPr/>
            </p:nvSpPr>
            <p:spPr>
              <a:xfrm>
                <a:off x="1181520" y="2395440"/>
                <a:ext cx="1881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교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labor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8" name="직선 연결선 32"/>
            <p:cNvSpPr/>
            <p:nvPr/>
          </p:nvSpPr>
          <p:spPr>
            <a:xfrm>
              <a:off x="4484520" y="26809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9" name="그룹 114"/>
            <p:cNvGrpSpPr/>
            <p:nvPr/>
          </p:nvGrpSpPr>
          <p:grpSpPr>
            <a:xfrm>
              <a:off x="1361880" y="2793600"/>
              <a:ext cx="7409160" cy="1919160"/>
              <a:chOff x="1361880" y="2793600"/>
              <a:chExt cx="7409160" cy="1919160"/>
            </a:xfrm>
          </p:grpSpPr>
          <p:sp>
            <p:nvSpPr>
              <p:cNvPr id="1190" name="직사각형 37"/>
              <p:cNvSpPr/>
              <p:nvPr/>
            </p:nvSpPr>
            <p:spPr>
              <a:xfrm>
                <a:off x="1599120" y="2793600"/>
                <a:ext cx="7171920" cy="191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에 의미를 추가하거나 그 정보를 기존 지식에 관련짓는 인지전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심화시키고 확장하는 전략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해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체적 특성을 분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론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자료에 대한 결론은 무엇인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?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1" name="타원 35"/>
              <p:cNvGrpSpPr/>
              <p:nvPr/>
            </p:nvGrpSpPr>
            <p:grpSpPr>
              <a:xfrm>
                <a:off x="1361880" y="2937600"/>
                <a:ext cx="229320" cy="231480"/>
                <a:chOff x="1361880" y="2937600"/>
                <a:chExt cx="229320" cy="231480"/>
              </a:xfrm>
            </p:grpSpPr>
            <p:pic>
              <p:nvPicPr>
                <p:cNvPr id="1192" name="타원 3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61880" y="2937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3" name=""/>
                <p:cNvSpPr/>
                <p:nvPr/>
              </p:nvSpPr>
              <p:spPr>
                <a:xfrm rot="10800000">
                  <a:off x="1444680" y="2994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타원 36"/>
              <p:cNvGrpSpPr/>
              <p:nvPr/>
            </p:nvGrpSpPr>
            <p:grpSpPr>
              <a:xfrm>
                <a:off x="1361880" y="3321720"/>
                <a:ext cx="229320" cy="231480"/>
                <a:chOff x="1361880" y="3321720"/>
                <a:chExt cx="229320" cy="231480"/>
              </a:xfrm>
            </p:grpSpPr>
            <p:pic>
              <p:nvPicPr>
                <p:cNvPr id="1195" name="타원 3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3217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 rot="10800000">
                  <a:off x="1444680" y="3376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타원 53"/>
              <p:cNvGrpSpPr/>
              <p:nvPr/>
            </p:nvGrpSpPr>
            <p:grpSpPr>
              <a:xfrm>
                <a:off x="1361880" y="3663000"/>
                <a:ext cx="229320" cy="231480"/>
                <a:chOff x="1361880" y="3663000"/>
                <a:chExt cx="229320" cy="231480"/>
              </a:xfrm>
            </p:grpSpPr>
            <p:pic>
              <p:nvPicPr>
                <p:cNvPr id="1198" name="타원 5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3663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9" name=""/>
                <p:cNvSpPr/>
                <p:nvPr/>
              </p:nvSpPr>
              <p:spPr>
                <a:xfrm rot="10800000">
                  <a:off x="1444680" y="3722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0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2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그룹 30"/>
          <p:cNvGrpSpPr/>
          <p:nvPr/>
        </p:nvGrpSpPr>
        <p:grpSpPr>
          <a:xfrm>
            <a:off x="1000080" y="4338720"/>
            <a:ext cx="7770960" cy="1579320"/>
            <a:chOff x="1000080" y="4338720"/>
            <a:chExt cx="7770960" cy="1579320"/>
          </a:xfrm>
        </p:grpSpPr>
        <p:grpSp>
          <p:nvGrpSpPr>
            <p:cNvPr id="1211" name="그룹 142"/>
            <p:cNvGrpSpPr/>
            <p:nvPr/>
          </p:nvGrpSpPr>
          <p:grpSpPr>
            <a:xfrm>
              <a:off x="1000080" y="4338720"/>
              <a:ext cx="2536920" cy="505440"/>
              <a:chOff x="1000080" y="4338720"/>
              <a:chExt cx="2536920" cy="505440"/>
            </a:xfrm>
          </p:grpSpPr>
          <p:grpSp>
            <p:nvGrpSpPr>
              <p:cNvPr id="1212" name="그룹 97"/>
              <p:cNvGrpSpPr/>
              <p:nvPr/>
            </p:nvGrpSpPr>
            <p:grpSpPr>
              <a:xfrm>
                <a:off x="1000080" y="4422240"/>
                <a:ext cx="285480" cy="338400"/>
                <a:chOff x="1000080" y="4422240"/>
                <a:chExt cx="285480" cy="338400"/>
              </a:xfrm>
            </p:grpSpPr>
            <p:pic>
              <p:nvPicPr>
                <p:cNvPr id="121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4479120"/>
                  <a:ext cx="28548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4" name="TextBox 146"/>
                <p:cNvSpPr/>
                <p:nvPr/>
              </p:nvSpPr>
              <p:spPr>
                <a:xfrm>
                  <a:off x="1003680" y="4422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5" name="직사각형 58"/>
              <p:cNvSpPr/>
              <p:nvPr/>
            </p:nvSpPr>
            <p:spPr>
              <a:xfrm>
                <a:off x="1236240" y="4338720"/>
                <a:ext cx="2300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visual imag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6" name="직선 연결선 45"/>
            <p:cNvSpPr/>
            <p:nvPr/>
          </p:nvSpPr>
          <p:spPr>
            <a:xfrm>
              <a:off x="4484520" y="46242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7" name="그룹 114"/>
            <p:cNvGrpSpPr/>
            <p:nvPr/>
          </p:nvGrpSpPr>
          <p:grpSpPr>
            <a:xfrm>
              <a:off x="1361880" y="4728960"/>
              <a:ext cx="7409160" cy="1189080"/>
              <a:chOff x="1361880" y="4728960"/>
              <a:chExt cx="7409160" cy="1189080"/>
            </a:xfrm>
          </p:grpSpPr>
          <p:sp>
            <p:nvSpPr>
              <p:cNvPr id="1218" name="직사각형 37"/>
              <p:cNvSpPr/>
              <p:nvPr/>
            </p:nvSpPr>
            <p:spPr>
              <a:xfrm>
                <a:off x="1599120" y="4728960"/>
                <a:ext cx="7171920" cy="11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시각적인 형태로 변형하는 과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정보의 모습에 대한 정신적 그림을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리는 기법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은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타원 54"/>
              <p:cNvGrpSpPr/>
              <p:nvPr/>
            </p:nvGrpSpPr>
            <p:grpSpPr>
              <a:xfrm>
                <a:off x="1361880" y="4870440"/>
                <a:ext cx="229320" cy="237600"/>
                <a:chOff x="1361880" y="4870440"/>
                <a:chExt cx="229320" cy="237600"/>
              </a:xfrm>
            </p:grpSpPr>
            <p:pic>
              <p:nvPicPr>
                <p:cNvPr id="1220" name="타원 5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4870440"/>
                  <a:ext cx="22932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 rot="10800000">
                  <a:off x="1444680" y="4930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2" name="타원 56"/>
              <p:cNvGrpSpPr/>
              <p:nvPr/>
            </p:nvGrpSpPr>
            <p:grpSpPr>
              <a:xfrm>
                <a:off x="1361880" y="5602320"/>
                <a:ext cx="229320" cy="231480"/>
                <a:chOff x="1361880" y="5602320"/>
                <a:chExt cx="229320" cy="231480"/>
              </a:xfrm>
            </p:grpSpPr>
            <p:pic>
              <p:nvPicPr>
                <p:cNvPr id="1223" name="타원 5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361880" y="5602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4" name=""/>
                <p:cNvSpPr/>
                <p:nvPr/>
              </p:nvSpPr>
              <p:spPr>
                <a:xfrm rot="10800000">
                  <a:off x="1444680" y="5657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cxnSp>
        <p:nvCxnSpPr>
          <p:cNvPr id="1226" name="꺾인 연결선 14"/>
          <p:cNvCxnSpPr/>
          <p:nvPr/>
        </p:nvCxnSpPr>
        <p:spPr>
          <a:xfrm>
            <a:off x="1428840" y="-357120"/>
            <a:ext cx="714960" cy="357840"/>
          </a:xfrm>
          <a:prstGeom prst="bentConnector3">
            <a:avLst>
              <a:gd name="adj1" fmla="val 201"/>
            </a:avLst>
          </a:prstGeom>
          <a:ln w="9360">
            <a:solidFill>
              <a:srgbClr val="438086"/>
            </a:solidFill>
            <a:miter/>
            <a:tailEnd len="med" type="arrow" w="med"/>
          </a:ln>
        </p:spPr>
      </p:cxnSp>
      <p:grpSp>
        <p:nvGrpSpPr>
          <p:cNvPr id="1227" name="그룹 173"/>
          <p:cNvGrpSpPr/>
          <p:nvPr/>
        </p:nvGrpSpPr>
        <p:grpSpPr>
          <a:xfrm>
            <a:off x="285840" y="1857240"/>
            <a:ext cx="8572320" cy="4643640"/>
            <a:chOff x="285840" y="1857240"/>
            <a:chExt cx="8572320" cy="4643640"/>
          </a:xfrm>
        </p:grpSpPr>
        <p:grpSp>
          <p:nvGrpSpPr>
            <p:cNvPr id="1228" name="그룹 63"/>
            <p:cNvGrpSpPr/>
            <p:nvPr/>
          </p:nvGrpSpPr>
          <p:grpSpPr>
            <a:xfrm>
              <a:off x="285840" y="1857240"/>
              <a:ext cx="8572320" cy="4643640"/>
              <a:chOff x="285840" y="1857240"/>
              <a:chExt cx="8572320" cy="4643640"/>
            </a:xfrm>
          </p:grpSpPr>
          <p:grpSp>
            <p:nvGrpSpPr>
              <p:cNvPr id="1229" name="그룹 91"/>
              <p:cNvGrpSpPr/>
              <p:nvPr/>
            </p:nvGrpSpPr>
            <p:grpSpPr>
              <a:xfrm>
                <a:off x="285840" y="2060280"/>
                <a:ext cx="8572320" cy="4440600"/>
                <a:chOff x="285840" y="2060280"/>
                <a:chExt cx="8572320" cy="4440600"/>
              </a:xfrm>
            </p:grpSpPr>
            <p:pic>
              <p:nvPicPr>
                <p:cNvPr id="123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060280"/>
                  <a:ext cx="8501040" cy="4440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31" name="직사각형 32"/>
                <p:cNvSpPr/>
                <p:nvPr/>
              </p:nvSpPr>
              <p:spPr>
                <a:xfrm>
                  <a:off x="1143000" y="235692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이란 장기기억에 저장되어 있는 정보에 접근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의 존재 여부가 인출에 큰 영향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책의 어디서 배웠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?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된 정보에 접근할 수 있는 실마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2" name="그룹 44"/>
              <p:cNvGrpSpPr/>
              <p:nvPr/>
            </p:nvGrpSpPr>
            <p:grpSpPr>
              <a:xfrm>
                <a:off x="928440" y="1857240"/>
                <a:ext cx="7574040" cy="505440"/>
                <a:chOff x="928440" y="1857240"/>
                <a:chExt cx="7574040" cy="505440"/>
              </a:xfrm>
            </p:grpSpPr>
            <p:grpSp>
              <p:nvGrpSpPr>
                <p:cNvPr id="1233" name="그룹 91"/>
                <p:cNvGrpSpPr/>
                <p:nvPr/>
              </p:nvGrpSpPr>
              <p:grpSpPr>
                <a:xfrm>
                  <a:off x="928440" y="1857240"/>
                  <a:ext cx="1787040" cy="505440"/>
                  <a:chOff x="928440" y="1857240"/>
                  <a:chExt cx="1787040" cy="505440"/>
                </a:xfrm>
              </p:grpSpPr>
              <p:grpSp>
                <p:nvGrpSpPr>
                  <p:cNvPr id="1234" name="그룹 34"/>
                  <p:cNvGrpSpPr/>
                  <p:nvPr/>
                </p:nvGrpSpPr>
                <p:grpSpPr>
                  <a:xfrm>
                    <a:off x="928440" y="1961280"/>
                    <a:ext cx="349200" cy="343800"/>
                    <a:chOff x="928440" y="1961280"/>
                    <a:chExt cx="349200" cy="343800"/>
                  </a:xfrm>
                </p:grpSpPr>
                <p:pic>
                  <p:nvPicPr>
                    <p:cNvPr id="123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968480"/>
                      <a:ext cx="34920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6" name="TextBox 36"/>
                    <p:cNvSpPr/>
                    <p:nvPr/>
                  </p:nvSpPr>
                  <p:spPr>
                    <a:xfrm>
                      <a:off x="957960" y="1961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7" name="직사각형 28"/>
                  <p:cNvSpPr/>
                  <p:nvPr/>
                </p:nvSpPr>
                <p:spPr>
                  <a:xfrm>
                    <a:off x="1285200" y="1857240"/>
                    <a:ext cx="1430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retriev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8" name="직선 연결선 26"/>
                <p:cNvSpPr/>
                <p:nvPr/>
              </p:nvSpPr>
              <p:spPr>
                <a:xfrm flipV="1">
                  <a:off x="6286320" y="212976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9" name="타원 19"/>
            <p:cNvGrpSpPr/>
            <p:nvPr/>
          </p:nvGrpSpPr>
          <p:grpSpPr>
            <a:xfrm>
              <a:off x="932760" y="2517480"/>
              <a:ext cx="225360" cy="231480"/>
              <a:chOff x="932760" y="2517480"/>
              <a:chExt cx="225360" cy="231480"/>
            </a:xfrm>
          </p:grpSpPr>
          <p:pic>
            <p:nvPicPr>
              <p:cNvPr id="1240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"/>
              <p:cNvSpPr/>
              <p:nvPr/>
            </p:nvSpPr>
            <p:spPr>
              <a:xfrm rot="10800000">
                <a:off x="1014480" y="257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2" name="타원 56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243" name="타원 5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4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4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4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직선 연결선 4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5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5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그룹 30"/>
          <p:cNvGrpSpPr/>
          <p:nvPr/>
        </p:nvGrpSpPr>
        <p:grpSpPr>
          <a:xfrm>
            <a:off x="993600" y="4179960"/>
            <a:ext cx="7777440" cy="1183680"/>
            <a:chOff x="993600" y="4179960"/>
            <a:chExt cx="7777440" cy="1183680"/>
          </a:xfrm>
        </p:grpSpPr>
        <p:grpSp>
          <p:nvGrpSpPr>
            <p:cNvPr id="1256" name="그룹 142"/>
            <p:cNvGrpSpPr/>
            <p:nvPr/>
          </p:nvGrpSpPr>
          <p:grpSpPr>
            <a:xfrm>
              <a:off x="993600" y="4179960"/>
              <a:ext cx="4391640" cy="505440"/>
              <a:chOff x="993600" y="4179960"/>
              <a:chExt cx="4391640" cy="505440"/>
            </a:xfrm>
          </p:grpSpPr>
          <p:grpSp>
            <p:nvGrpSpPr>
              <p:cNvPr id="1257" name="그룹 97"/>
              <p:cNvGrpSpPr/>
              <p:nvPr/>
            </p:nvGrpSpPr>
            <p:grpSpPr>
              <a:xfrm>
                <a:off x="993600" y="4237200"/>
                <a:ext cx="295200" cy="337320"/>
                <a:chOff x="993600" y="4237200"/>
                <a:chExt cx="295200" cy="337320"/>
              </a:xfrm>
            </p:grpSpPr>
            <p:pic>
              <p:nvPicPr>
                <p:cNvPr id="125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4290120"/>
                  <a:ext cx="2836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9" name="TextBox 146"/>
                <p:cNvSpPr/>
                <p:nvPr/>
              </p:nvSpPr>
              <p:spPr>
                <a:xfrm>
                  <a:off x="993600" y="42372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0" name="직사각형 52"/>
              <p:cNvSpPr/>
              <p:nvPr/>
            </p:nvSpPr>
            <p:spPr>
              <a:xfrm>
                <a:off x="1377720" y="4179960"/>
                <a:ext cx="4007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ncoding specificity principl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1" name="직선 연결선 45"/>
            <p:cNvSpPr/>
            <p:nvPr/>
          </p:nvSpPr>
          <p:spPr>
            <a:xfrm>
              <a:off x="5786640" y="446076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2" name="그룹 114"/>
            <p:cNvGrpSpPr/>
            <p:nvPr/>
          </p:nvGrpSpPr>
          <p:grpSpPr>
            <a:xfrm>
              <a:off x="1361880" y="4539600"/>
              <a:ext cx="7409160" cy="824040"/>
              <a:chOff x="1361880" y="4539600"/>
              <a:chExt cx="7409160" cy="824040"/>
            </a:xfrm>
          </p:grpSpPr>
          <p:sp>
            <p:nvSpPr>
              <p:cNvPr id="1263" name="직사각형 37"/>
              <p:cNvSpPr/>
              <p:nvPr/>
            </p:nvSpPr>
            <p:spPr>
              <a:xfrm>
                <a:off x="1599120" y="453960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부호화할 때 사용된 단서가 가장 효과적인 인출단서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된다는 원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인출조건이 부호화 조건과 일치할수록 기억이 촉진된다는 원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4" name="타원 48"/>
              <p:cNvGrpSpPr/>
              <p:nvPr/>
            </p:nvGrpSpPr>
            <p:grpSpPr>
              <a:xfrm>
                <a:off x="1361880" y="4681080"/>
                <a:ext cx="229320" cy="231840"/>
                <a:chOff x="1361880" y="4681080"/>
                <a:chExt cx="229320" cy="231840"/>
              </a:xfrm>
            </p:grpSpPr>
            <p:pic>
              <p:nvPicPr>
                <p:cNvPr id="1265" name="타원 4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681080"/>
                  <a:ext cx="22932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6" name=""/>
                <p:cNvSpPr/>
                <p:nvPr/>
              </p:nvSpPr>
              <p:spPr>
                <a:xfrm rot="10800000">
                  <a:off x="1444680" y="4737600"/>
                  <a:ext cx="68760" cy="6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67" name="그룹 30"/>
          <p:cNvGrpSpPr/>
          <p:nvPr/>
        </p:nvGrpSpPr>
        <p:grpSpPr>
          <a:xfrm>
            <a:off x="996840" y="5394240"/>
            <a:ext cx="7774200" cy="818280"/>
            <a:chOff x="996840" y="5394240"/>
            <a:chExt cx="7774200" cy="818280"/>
          </a:xfrm>
        </p:grpSpPr>
        <p:grpSp>
          <p:nvGrpSpPr>
            <p:cNvPr id="1268" name="그룹 142"/>
            <p:cNvGrpSpPr/>
            <p:nvPr/>
          </p:nvGrpSpPr>
          <p:grpSpPr>
            <a:xfrm>
              <a:off x="996840" y="5394240"/>
              <a:ext cx="3925080" cy="505440"/>
              <a:chOff x="996840" y="5394240"/>
              <a:chExt cx="3925080" cy="505440"/>
            </a:xfrm>
          </p:grpSpPr>
          <p:grpSp>
            <p:nvGrpSpPr>
              <p:cNvPr id="1269" name="그룹 97"/>
              <p:cNvGrpSpPr/>
              <p:nvPr/>
            </p:nvGrpSpPr>
            <p:grpSpPr>
              <a:xfrm>
                <a:off x="996840" y="5451480"/>
                <a:ext cx="305640" cy="338040"/>
                <a:chOff x="996840" y="5451480"/>
                <a:chExt cx="305640" cy="338040"/>
              </a:xfrm>
            </p:grpSpPr>
            <p:pic>
              <p:nvPicPr>
                <p:cNvPr id="1270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504040"/>
                  <a:ext cx="286200" cy="285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1" name="TextBox 146"/>
                <p:cNvSpPr/>
                <p:nvPr/>
              </p:nvSpPr>
              <p:spPr>
                <a:xfrm>
                  <a:off x="996840" y="5451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2" name="직사각형 64"/>
              <p:cNvSpPr/>
              <p:nvPr/>
            </p:nvSpPr>
            <p:spPr>
              <a:xfrm>
                <a:off x="1302840" y="5394240"/>
                <a:ext cx="3619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태의존학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tate-dependent learn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3" name="직선 연결선 59"/>
            <p:cNvSpPr/>
            <p:nvPr/>
          </p:nvSpPr>
          <p:spPr>
            <a:xfrm>
              <a:off x="5786640" y="567504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4" name="그룹 114"/>
            <p:cNvGrpSpPr/>
            <p:nvPr/>
          </p:nvGrpSpPr>
          <p:grpSpPr>
            <a:xfrm>
              <a:off x="1361880" y="5753520"/>
              <a:ext cx="7409160" cy="459000"/>
              <a:chOff x="1361880" y="5753520"/>
              <a:chExt cx="7409160" cy="459000"/>
            </a:xfrm>
          </p:grpSpPr>
          <p:sp>
            <p:nvSpPr>
              <p:cNvPr id="1275" name="직사각형 37"/>
              <p:cNvSpPr/>
              <p:nvPr/>
            </p:nvSpPr>
            <p:spPr>
              <a:xfrm>
                <a:off x="1599120" y="57535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정서상태에서 학습한 내용은 같은 정서상태에서 더 잘 회상되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6" name="타원 62"/>
              <p:cNvGrpSpPr/>
              <p:nvPr/>
            </p:nvGrpSpPr>
            <p:grpSpPr>
              <a:xfrm>
                <a:off x="1361880" y="5895000"/>
                <a:ext cx="229320" cy="231480"/>
                <a:chOff x="1361880" y="5895000"/>
                <a:chExt cx="229320" cy="231480"/>
              </a:xfrm>
            </p:grpSpPr>
            <p:pic>
              <p:nvPicPr>
                <p:cNvPr id="1277" name="타원 6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95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8" name=""/>
                <p:cNvSpPr/>
                <p:nvPr/>
              </p:nvSpPr>
              <p:spPr>
                <a:xfrm rot="10800000">
                  <a:off x="1444680" y="5951880"/>
                  <a:ext cx="68760" cy="6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9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8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8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2" name="직사각형 13"/>
              <p:cNvSpPr/>
              <p:nvPr/>
            </p:nvSpPr>
            <p:spPr>
              <a:xfrm>
                <a:off x="13658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처리수준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8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63"/>
          <p:cNvGrpSpPr/>
          <p:nvPr/>
        </p:nvGrpSpPr>
        <p:grpSpPr>
          <a:xfrm>
            <a:off x="285840" y="1928880"/>
            <a:ext cx="8501040" cy="2357280"/>
            <a:chOff x="285840" y="1928880"/>
            <a:chExt cx="8501040" cy="2357280"/>
          </a:xfrm>
        </p:grpSpPr>
        <p:grpSp>
          <p:nvGrpSpPr>
            <p:cNvPr id="1291" name="그룹 91"/>
            <p:cNvGrpSpPr/>
            <p:nvPr/>
          </p:nvGrpSpPr>
          <p:grpSpPr>
            <a:xfrm>
              <a:off x="285840" y="2131920"/>
              <a:ext cx="8501040" cy="2154240"/>
              <a:chOff x="285840" y="2131920"/>
              <a:chExt cx="8501040" cy="2154240"/>
            </a:xfrm>
          </p:grpSpPr>
          <p:pic>
            <p:nvPicPr>
              <p:cNvPr id="1292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31920"/>
                <a:ext cx="8501040" cy="2154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3" name="직사각형 32"/>
              <p:cNvSpPr/>
              <p:nvPr/>
            </p:nvSpPr>
            <p:spPr>
              <a:xfrm>
                <a:off x="1214280" y="2428560"/>
                <a:ext cx="75726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정보를 처리하는 방식에 따라 달라진다는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모형과 달리 처리수준모형은 기억 단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상정하지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않으므로 정보가 계열적으로 처리된다고 가정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앙 처리자가 정보를 여러 수준에서 처리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295" name="그룹 91"/>
              <p:cNvGrpSpPr/>
              <p:nvPr/>
            </p:nvGrpSpPr>
            <p:grpSpPr>
              <a:xfrm>
                <a:off x="928440" y="1928880"/>
                <a:ext cx="845640" cy="551160"/>
                <a:chOff x="928440" y="1928880"/>
                <a:chExt cx="845640" cy="551160"/>
              </a:xfrm>
            </p:grpSpPr>
            <p:grpSp>
              <p:nvGrpSpPr>
                <p:cNvPr id="1296" name="그룹 34"/>
                <p:cNvGrpSpPr/>
                <p:nvPr/>
              </p:nvGrpSpPr>
              <p:grpSpPr>
                <a:xfrm>
                  <a:off x="928440" y="2032560"/>
                  <a:ext cx="348840" cy="343440"/>
                  <a:chOff x="928440" y="2032560"/>
                  <a:chExt cx="348840" cy="343440"/>
                </a:xfrm>
              </p:grpSpPr>
              <p:pic>
                <p:nvPicPr>
                  <p:cNvPr id="1297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1560"/>
                    <a:ext cx="348840" cy="3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8" name="TextBox 36"/>
                  <p:cNvSpPr/>
                  <p:nvPr/>
                </p:nvSpPr>
                <p:spPr>
                  <a:xfrm>
                    <a:off x="957600" y="20325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9" name="직사각형 26"/>
                <p:cNvSpPr/>
                <p:nvPr/>
              </p:nvSpPr>
              <p:spPr>
                <a:xfrm>
                  <a:off x="1288440" y="192888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0" name="직선 연결선 24"/>
              <p:cNvSpPr/>
              <p:nvPr/>
            </p:nvSpPr>
            <p:spPr>
              <a:xfrm>
                <a:off x="3214440" y="220032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1" name="그룹 173"/>
          <p:cNvGrpSpPr/>
          <p:nvPr/>
        </p:nvGrpSpPr>
        <p:grpSpPr>
          <a:xfrm>
            <a:off x="285840" y="4286160"/>
            <a:ext cx="8572320" cy="2571840"/>
            <a:chOff x="285840" y="4286160"/>
            <a:chExt cx="8572320" cy="2571840"/>
          </a:xfrm>
        </p:grpSpPr>
        <p:grpSp>
          <p:nvGrpSpPr>
            <p:cNvPr id="1302" name="그룹 63"/>
            <p:cNvGrpSpPr/>
            <p:nvPr/>
          </p:nvGrpSpPr>
          <p:grpSpPr>
            <a:xfrm>
              <a:off x="285840" y="4286160"/>
              <a:ext cx="8572320" cy="2571840"/>
              <a:chOff x="285840" y="4286160"/>
              <a:chExt cx="8572320" cy="2571840"/>
            </a:xfrm>
          </p:grpSpPr>
          <p:grpSp>
            <p:nvGrpSpPr>
              <p:cNvPr id="1303" name="그룹 91"/>
              <p:cNvGrpSpPr/>
              <p:nvPr/>
            </p:nvGrpSpPr>
            <p:grpSpPr>
              <a:xfrm>
                <a:off x="285840" y="4489200"/>
                <a:ext cx="8572320" cy="2368800"/>
                <a:chOff x="285840" y="4489200"/>
                <a:chExt cx="8572320" cy="2368800"/>
              </a:xfrm>
            </p:grpSpPr>
            <p:pic>
              <p:nvPicPr>
                <p:cNvPr id="13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8920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05" name="직사각형 45"/>
                <p:cNvSpPr/>
                <p:nvPr/>
              </p:nvSpPr>
              <p:spPr>
                <a:xfrm>
                  <a:off x="1143000" y="4785840"/>
                  <a:ext cx="7715160" cy="187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물리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음운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 중에서 물리적 처리가 가장 피상적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가 가장 심층적인 수준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Upanisade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심층적인 수준에서 처리할수록 잘 기억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중요한 정보일수록 심층적인 수준에서 처리해야 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6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307" name="그룹 91"/>
                <p:cNvGrpSpPr/>
                <p:nvPr/>
              </p:nvGrpSpPr>
              <p:grpSpPr>
                <a:xfrm>
                  <a:off x="928440" y="4286160"/>
                  <a:ext cx="845640" cy="551160"/>
                  <a:chOff x="928440" y="4286160"/>
                  <a:chExt cx="845640" cy="551160"/>
                </a:xfrm>
              </p:grpSpPr>
              <p:grpSp>
                <p:nvGrpSpPr>
                  <p:cNvPr id="1308" name="그룹 34"/>
                  <p:cNvGrpSpPr/>
                  <p:nvPr/>
                </p:nvGrpSpPr>
                <p:grpSpPr>
                  <a:xfrm>
                    <a:off x="928440" y="4390200"/>
                    <a:ext cx="349200" cy="343800"/>
                    <a:chOff x="928440" y="4390200"/>
                    <a:chExt cx="349200" cy="343800"/>
                  </a:xfrm>
                </p:grpSpPr>
                <p:pic>
                  <p:nvPicPr>
                    <p:cNvPr id="13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94880"/>
                      <a:ext cx="349200" cy="33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10" name="TextBox 36"/>
                    <p:cNvSpPr/>
                    <p:nvPr/>
                  </p:nvSpPr>
                  <p:spPr>
                    <a:xfrm>
                      <a:off x="957960" y="439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1" name="직사각형 41"/>
                  <p:cNvSpPr/>
                  <p:nvPr/>
                </p:nvSpPr>
                <p:spPr>
                  <a:xfrm>
                    <a:off x="1288440" y="4286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12" name="직선 연결선 39"/>
                <p:cNvSpPr/>
                <p:nvPr/>
              </p:nvSpPr>
              <p:spPr>
                <a:xfrm flipV="1">
                  <a:off x="6286320" y="455868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13" name="타원 35"/>
            <p:cNvGrpSpPr/>
            <p:nvPr/>
          </p:nvGrpSpPr>
          <p:grpSpPr>
            <a:xfrm>
              <a:off x="932760" y="4943520"/>
              <a:ext cx="225360" cy="231480"/>
              <a:chOff x="932760" y="4943520"/>
              <a:chExt cx="225360" cy="231480"/>
            </a:xfrm>
          </p:grpSpPr>
          <p:pic>
            <p:nvPicPr>
              <p:cNvPr id="1314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43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5" name=""/>
              <p:cNvSpPr/>
              <p:nvPr/>
            </p:nvSpPr>
            <p:spPr>
              <a:xfrm rot="10800000">
                <a:off x="1014480" y="5000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6" name="타원 46"/>
            <p:cNvGrpSpPr/>
            <p:nvPr/>
          </p:nvGrpSpPr>
          <p:grpSpPr>
            <a:xfrm>
              <a:off x="932760" y="5779080"/>
              <a:ext cx="225360" cy="231480"/>
              <a:chOff x="932760" y="5779080"/>
              <a:chExt cx="225360" cy="231480"/>
            </a:xfrm>
          </p:grpSpPr>
          <p:pic>
            <p:nvPicPr>
              <p:cNvPr id="1317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77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8" name=""/>
              <p:cNvSpPr/>
              <p:nvPr/>
            </p:nvSpPr>
            <p:spPr>
              <a:xfrm rot="10800000">
                <a:off x="1014480" y="5833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9" name="타원 38"/>
            <p:cNvGrpSpPr/>
            <p:nvPr/>
          </p:nvGrpSpPr>
          <p:grpSpPr>
            <a:xfrm>
              <a:off x="932760" y="6297120"/>
              <a:ext cx="225360" cy="237600"/>
              <a:chOff x="932760" y="6297120"/>
              <a:chExt cx="225360" cy="237600"/>
            </a:xfrm>
          </p:grpSpPr>
          <p:pic>
            <p:nvPicPr>
              <p:cNvPr id="1320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97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1" name=""/>
              <p:cNvSpPr/>
              <p:nvPr/>
            </p:nvSpPr>
            <p:spPr>
              <a:xfrm rot="10800000">
                <a:off x="1014480" y="635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2" name="타원 47"/>
          <p:cNvGrpSpPr/>
          <p:nvPr/>
        </p:nvGrpSpPr>
        <p:grpSpPr>
          <a:xfrm>
            <a:off x="933480" y="2603520"/>
            <a:ext cx="225360" cy="231840"/>
            <a:chOff x="933480" y="2603520"/>
            <a:chExt cx="225360" cy="231840"/>
          </a:xfrm>
        </p:grpSpPr>
        <p:pic>
          <p:nvPicPr>
            <p:cNvPr id="1323" name="타원 47" descr=""/>
            <p:cNvPicPr/>
            <p:nvPr/>
          </p:nvPicPr>
          <p:blipFill>
            <a:blip r:embed="rId10"/>
            <a:stretch/>
          </p:blipFill>
          <p:spPr>
            <a:xfrm>
              <a:off x="933480" y="26035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4" name=""/>
            <p:cNvSpPr/>
            <p:nvPr/>
          </p:nvSpPr>
          <p:spPr>
            <a:xfrm rot="10800000">
              <a:off x="1014480" y="2657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5" name="타원 49"/>
          <p:cNvGrpSpPr/>
          <p:nvPr/>
        </p:nvGrpSpPr>
        <p:grpSpPr>
          <a:xfrm>
            <a:off x="933480" y="3029040"/>
            <a:ext cx="225360" cy="231840"/>
            <a:chOff x="933480" y="3029040"/>
            <a:chExt cx="225360" cy="231840"/>
          </a:xfrm>
        </p:grpSpPr>
        <p:pic>
          <p:nvPicPr>
            <p:cNvPr id="1326" name="타원 49" descr=""/>
            <p:cNvPicPr/>
            <p:nvPr/>
          </p:nvPicPr>
          <p:blipFill>
            <a:blip r:embed="rId11"/>
            <a:stretch/>
          </p:blipFill>
          <p:spPr>
            <a:xfrm>
              <a:off x="933480" y="30290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7" name=""/>
            <p:cNvSpPr/>
            <p:nvPr/>
          </p:nvSpPr>
          <p:spPr>
            <a:xfrm rot="10800000">
              <a:off x="1014480" y="30862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타원 50"/>
          <p:cNvGrpSpPr/>
          <p:nvPr/>
        </p:nvGrpSpPr>
        <p:grpSpPr>
          <a:xfrm>
            <a:off x="933480" y="3859200"/>
            <a:ext cx="225360" cy="231840"/>
            <a:chOff x="933480" y="3859200"/>
            <a:chExt cx="225360" cy="231840"/>
          </a:xfrm>
        </p:grpSpPr>
        <p:pic>
          <p:nvPicPr>
            <p:cNvPr id="1329" name="타원 50" descr=""/>
            <p:cNvPicPr/>
            <p:nvPr/>
          </p:nvPicPr>
          <p:blipFill>
            <a:blip r:embed="rId12"/>
            <a:stretch/>
          </p:blipFill>
          <p:spPr>
            <a:xfrm>
              <a:off x="933480" y="385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"/>
            <p:cNvSpPr/>
            <p:nvPr/>
          </p:nvSpPr>
          <p:spPr>
            <a:xfrm rot="10800000">
              <a:off x="1014480" y="391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34" name="직사각형 13"/>
              <p:cNvSpPr/>
              <p:nvPr/>
            </p:nvSpPr>
            <p:spPr>
              <a:xfrm>
                <a:off x="1875600" y="1385640"/>
                <a:ext cx="321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신경망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연결망 혹은 병렬분산처리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그룹 63"/>
          <p:cNvGrpSpPr/>
          <p:nvPr/>
        </p:nvGrpSpPr>
        <p:grpSpPr>
          <a:xfrm>
            <a:off x="285840" y="2000160"/>
            <a:ext cx="8786880" cy="2357640"/>
            <a:chOff x="285840" y="2000160"/>
            <a:chExt cx="8786880" cy="2357640"/>
          </a:xfrm>
        </p:grpSpPr>
        <p:grpSp>
          <p:nvGrpSpPr>
            <p:cNvPr id="1343" name="그룹 91"/>
            <p:cNvGrpSpPr/>
            <p:nvPr/>
          </p:nvGrpSpPr>
          <p:grpSpPr>
            <a:xfrm>
              <a:off x="285840" y="2203200"/>
              <a:ext cx="8786880" cy="2154600"/>
              <a:chOff x="285840" y="2203200"/>
              <a:chExt cx="8786880" cy="2154600"/>
            </a:xfrm>
          </p:grpSpPr>
          <p:pic>
            <p:nvPicPr>
              <p:cNvPr id="134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03200"/>
                <a:ext cx="8501400" cy="215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45" name="직사각형 32"/>
              <p:cNvSpPr/>
              <p:nvPr/>
            </p:nvSpPr>
            <p:spPr>
              <a:xfrm>
                <a:off x="1143000" y="2545920"/>
                <a:ext cx="792972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두뇌의 구조와 기능에 비추어 설명하는 모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노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뉴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호연결망이라고 가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결주의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열적으로 작동하는 것이 아니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간의 두뇌는 정보를 동시에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병렬체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6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347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348" name="그룹 34"/>
                <p:cNvGrpSpPr/>
                <p:nvPr/>
              </p:nvGrpSpPr>
              <p:grpSpPr>
                <a:xfrm>
                  <a:off x="928440" y="2103840"/>
                  <a:ext cx="348840" cy="343440"/>
                  <a:chOff x="928440" y="2103840"/>
                  <a:chExt cx="348840" cy="343440"/>
                </a:xfrm>
              </p:grpSpPr>
              <p:pic>
                <p:nvPicPr>
                  <p:cNvPr id="134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08520"/>
                    <a:ext cx="348840" cy="3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0" name="TextBox 36"/>
                  <p:cNvSpPr/>
                  <p:nvPr/>
                </p:nvSpPr>
                <p:spPr>
                  <a:xfrm>
                    <a:off x="957600" y="2103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1" name="직사각형 26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2" name="직선 연결선 24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3" name="그룹 173"/>
          <p:cNvGrpSpPr/>
          <p:nvPr/>
        </p:nvGrpSpPr>
        <p:grpSpPr>
          <a:xfrm>
            <a:off x="285840" y="4240080"/>
            <a:ext cx="8572320" cy="2672280"/>
            <a:chOff x="285840" y="4240080"/>
            <a:chExt cx="8572320" cy="2672280"/>
          </a:xfrm>
        </p:grpSpPr>
        <p:grpSp>
          <p:nvGrpSpPr>
            <p:cNvPr id="1354" name="그룹 63"/>
            <p:cNvGrpSpPr/>
            <p:nvPr/>
          </p:nvGrpSpPr>
          <p:grpSpPr>
            <a:xfrm>
              <a:off x="285840" y="4240080"/>
              <a:ext cx="8572320" cy="2672280"/>
              <a:chOff x="285840" y="4240080"/>
              <a:chExt cx="8572320" cy="2672280"/>
            </a:xfrm>
          </p:grpSpPr>
          <p:grpSp>
            <p:nvGrpSpPr>
              <p:cNvPr id="1355" name="그룹 91"/>
              <p:cNvGrpSpPr/>
              <p:nvPr/>
            </p:nvGrpSpPr>
            <p:grpSpPr>
              <a:xfrm>
                <a:off x="285840" y="4443120"/>
                <a:ext cx="8572320" cy="2469240"/>
                <a:chOff x="285840" y="4443120"/>
                <a:chExt cx="8572320" cy="2469240"/>
              </a:xfrm>
            </p:grpSpPr>
            <p:pic>
              <p:nvPicPr>
                <p:cNvPr id="135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4312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57" name="직사각형 45"/>
                <p:cNvSpPr/>
                <p:nvPr/>
              </p:nvSpPr>
              <p:spPr>
                <a:xfrm>
                  <a:off x="1143000" y="4623840"/>
                  <a:ext cx="7715160" cy="228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신경망에는 인지적 조작이 동시에 병렬적으로 처리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병렬분산처리모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은 노드 사이의 연결에 저장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는 여러 저장고에 저장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이란 연결을 형성하고 강화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8" name="그룹 44"/>
              <p:cNvGrpSpPr/>
              <p:nvPr/>
            </p:nvGrpSpPr>
            <p:grpSpPr>
              <a:xfrm>
                <a:off x="928440" y="4240080"/>
                <a:ext cx="7574040" cy="551160"/>
                <a:chOff x="928440" y="4240080"/>
                <a:chExt cx="7574040" cy="551160"/>
              </a:xfrm>
            </p:grpSpPr>
            <p:grpSp>
              <p:nvGrpSpPr>
                <p:cNvPr id="1359" name="그룹 91"/>
                <p:cNvGrpSpPr/>
                <p:nvPr/>
              </p:nvGrpSpPr>
              <p:grpSpPr>
                <a:xfrm>
                  <a:off x="928440" y="4240080"/>
                  <a:ext cx="845640" cy="551160"/>
                  <a:chOff x="928440" y="4240080"/>
                  <a:chExt cx="845640" cy="551160"/>
                </a:xfrm>
              </p:grpSpPr>
              <p:grpSp>
                <p:nvGrpSpPr>
                  <p:cNvPr id="1360" name="그룹 34"/>
                  <p:cNvGrpSpPr/>
                  <p:nvPr/>
                </p:nvGrpSpPr>
                <p:grpSpPr>
                  <a:xfrm>
                    <a:off x="928440" y="4344120"/>
                    <a:ext cx="348840" cy="343800"/>
                    <a:chOff x="928440" y="4344120"/>
                    <a:chExt cx="348840" cy="343800"/>
                  </a:xfrm>
                </p:grpSpPr>
                <p:pic>
                  <p:nvPicPr>
                    <p:cNvPr id="136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52040"/>
                      <a:ext cx="348840" cy="33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2" name="TextBox 36"/>
                    <p:cNvSpPr/>
                    <p:nvPr/>
                  </p:nvSpPr>
                  <p:spPr>
                    <a:xfrm>
                      <a:off x="957600" y="434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3" name="직사각형 41"/>
                  <p:cNvSpPr/>
                  <p:nvPr/>
                </p:nvSpPr>
                <p:spPr>
                  <a:xfrm>
                    <a:off x="1288440" y="4240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4" name="직선 연결선 39"/>
                <p:cNvSpPr/>
                <p:nvPr/>
              </p:nvSpPr>
              <p:spPr>
                <a:xfrm flipV="1">
                  <a:off x="6286320" y="45126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65" name="타원 35"/>
            <p:cNvGrpSpPr/>
            <p:nvPr/>
          </p:nvGrpSpPr>
          <p:grpSpPr>
            <a:xfrm>
              <a:off x="932760" y="4901040"/>
              <a:ext cx="225360" cy="231480"/>
              <a:chOff x="932760" y="4901040"/>
              <a:chExt cx="225360" cy="231480"/>
            </a:xfrm>
          </p:grpSpPr>
          <p:pic>
            <p:nvPicPr>
              <p:cNvPr id="1366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01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7" name=""/>
              <p:cNvSpPr/>
              <p:nvPr/>
            </p:nvSpPr>
            <p:spPr>
              <a:xfrm rot="10800000">
                <a:off x="1014480" y="495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8" name="타원 46"/>
            <p:cNvGrpSpPr/>
            <p:nvPr/>
          </p:nvGrpSpPr>
          <p:grpSpPr>
            <a:xfrm>
              <a:off x="932760" y="5986080"/>
              <a:ext cx="225360" cy="231480"/>
              <a:chOff x="932760" y="5986080"/>
              <a:chExt cx="225360" cy="231480"/>
            </a:xfrm>
          </p:grpSpPr>
          <p:pic>
            <p:nvPicPr>
              <p:cNvPr id="1369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98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0" name=""/>
              <p:cNvSpPr/>
              <p:nvPr/>
            </p:nvSpPr>
            <p:spPr>
              <a:xfrm rot="10800000">
                <a:off x="1014480" y="6040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1" name="타원 38"/>
            <p:cNvGrpSpPr/>
            <p:nvPr/>
          </p:nvGrpSpPr>
          <p:grpSpPr>
            <a:xfrm>
              <a:off x="932760" y="5412960"/>
              <a:ext cx="225360" cy="231480"/>
              <a:chOff x="932760" y="5412960"/>
              <a:chExt cx="225360" cy="231480"/>
            </a:xfrm>
          </p:grpSpPr>
          <p:pic>
            <p:nvPicPr>
              <p:cNvPr id="1372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41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3" name=""/>
              <p:cNvSpPr/>
              <p:nvPr/>
            </p:nvSpPr>
            <p:spPr>
              <a:xfrm rot="10800000">
                <a:off x="1014480" y="5468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4" name="타원 40"/>
          <p:cNvGrpSpPr/>
          <p:nvPr/>
        </p:nvGrpSpPr>
        <p:grpSpPr>
          <a:xfrm>
            <a:off x="933480" y="2719440"/>
            <a:ext cx="225360" cy="231840"/>
            <a:chOff x="933480" y="2719440"/>
            <a:chExt cx="225360" cy="231840"/>
          </a:xfrm>
        </p:grpSpPr>
        <p:pic>
          <p:nvPicPr>
            <p:cNvPr id="1375" name="타원 40" descr=""/>
            <p:cNvPicPr/>
            <p:nvPr/>
          </p:nvPicPr>
          <p:blipFill>
            <a:blip r:embed="rId10"/>
            <a:stretch/>
          </p:blipFill>
          <p:spPr>
            <a:xfrm>
              <a:off x="933480" y="27194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"/>
            <p:cNvSpPr/>
            <p:nvPr/>
          </p:nvSpPr>
          <p:spPr>
            <a:xfrm rot="10800000">
              <a:off x="1014480" y="2773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7" name="타원 43"/>
          <p:cNvGrpSpPr/>
          <p:nvPr/>
        </p:nvGrpSpPr>
        <p:grpSpPr>
          <a:xfrm>
            <a:off x="933480" y="3505320"/>
            <a:ext cx="225360" cy="231480"/>
            <a:chOff x="933480" y="3505320"/>
            <a:chExt cx="225360" cy="231480"/>
          </a:xfrm>
        </p:grpSpPr>
        <p:pic>
          <p:nvPicPr>
            <p:cNvPr id="1378" name="타원 43" descr=""/>
            <p:cNvPicPr/>
            <p:nvPr/>
          </p:nvPicPr>
          <p:blipFill>
            <a:blip r:embed="rId11"/>
            <a:stretch/>
          </p:blipFill>
          <p:spPr>
            <a:xfrm>
              <a:off x="933480" y="350532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9" name=""/>
            <p:cNvSpPr/>
            <p:nvPr/>
          </p:nvSpPr>
          <p:spPr>
            <a:xfrm rot="10800000">
              <a:off x="1014480" y="355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0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8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3" name="직사각형 13"/>
              <p:cNvSpPr/>
              <p:nvPr/>
            </p:nvSpPr>
            <p:spPr>
              <a:xfrm>
                <a:off x="1334880" y="138564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중부호모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8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8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그룹 39"/>
          <p:cNvGrpSpPr/>
          <p:nvPr/>
        </p:nvGrpSpPr>
        <p:grpSpPr>
          <a:xfrm>
            <a:off x="642960" y="2357280"/>
            <a:ext cx="8215200" cy="2928960"/>
            <a:chOff x="642960" y="2357280"/>
            <a:chExt cx="8215200" cy="2928960"/>
          </a:xfrm>
        </p:grpSpPr>
        <p:grpSp>
          <p:nvGrpSpPr>
            <p:cNvPr id="1392" name="그룹 123"/>
            <p:cNvGrpSpPr/>
            <p:nvPr/>
          </p:nvGrpSpPr>
          <p:grpSpPr>
            <a:xfrm>
              <a:off x="642960" y="2357280"/>
              <a:ext cx="8215200" cy="2928960"/>
              <a:chOff x="642960" y="2357280"/>
              <a:chExt cx="8215200" cy="2928960"/>
            </a:xfrm>
          </p:grpSpPr>
          <p:pic>
            <p:nvPicPr>
              <p:cNvPr id="1393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357280"/>
                <a:ext cx="8072640" cy="2928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94" name="직사각형 50"/>
              <p:cNvSpPr/>
              <p:nvPr/>
            </p:nvSpPr>
            <p:spPr>
              <a:xfrm>
                <a:off x="928440" y="2620800"/>
                <a:ext cx="792972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는 기억에 언어적 형태와 시각적 형태로 저장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두 가지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적 형태와 시각적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표상될 수 있는 정보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 가지 방식으로만 저장되는 정보보다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국 추상적 개념보다 구체적 개념이 더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5" name="타원 52"/>
              <p:cNvGrpSpPr/>
              <p:nvPr/>
            </p:nvGrpSpPr>
            <p:grpSpPr>
              <a:xfrm>
                <a:off x="908280" y="2901600"/>
                <a:ext cx="225360" cy="237600"/>
                <a:chOff x="908280" y="2901600"/>
                <a:chExt cx="225360" cy="237600"/>
              </a:xfrm>
            </p:grpSpPr>
            <p:pic>
              <p:nvPicPr>
                <p:cNvPr id="1396" name="타원 5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9016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7" name=""/>
                <p:cNvSpPr/>
                <p:nvPr/>
              </p:nvSpPr>
              <p:spPr>
                <a:xfrm rot="10800000">
                  <a:off x="987480" y="29610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8" name="타원 48"/>
            <p:cNvGrpSpPr/>
            <p:nvPr/>
          </p:nvGrpSpPr>
          <p:grpSpPr>
            <a:xfrm>
              <a:off x="908280" y="3547800"/>
              <a:ext cx="225360" cy="231480"/>
              <a:chOff x="908280" y="3547800"/>
              <a:chExt cx="225360" cy="231480"/>
            </a:xfrm>
          </p:grpSpPr>
          <p:pic>
            <p:nvPicPr>
              <p:cNvPr id="1399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547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0" name=""/>
              <p:cNvSpPr/>
              <p:nvPr/>
            </p:nvSpPr>
            <p:spPr>
              <a:xfrm rot="10800000">
                <a:off x="987480" y="3603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1" name="타원 17"/>
            <p:cNvGrpSpPr/>
            <p:nvPr/>
          </p:nvGrpSpPr>
          <p:grpSpPr>
            <a:xfrm>
              <a:off x="908280" y="4505040"/>
              <a:ext cx="225360" cy="231480"/>
              <a:chOff x="908280" y="4505040"/>
              <a:chExt cx="225360" cy="231480"/>
            </a:xfrm>
          </p:grpSpPr>
          <p:pic>
            <p:nvPicPr>
              <p:cNvPr id="140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3" name=""/>
              <p:cNvSpPr/>
              <p:nvPr/>
            </p:nvSpPr>
            <p:spPr>
              <a:xfrm rot="10800000">
                <a:off x="98748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4" name="TextBox 12" descr=""/>
          <p:cNvPicPr/>
          <p:nvPr/>
        </p:nvPicPr>
        <p:blipFill>
          <a:blip r:embed="rId1"/>
          <a:stretch/>
        </p:blipFill>
        <p:spPr>
          <a:xfrm>
            <a:off x="5619600" y="506520"/>
            <a:ext cx="35798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05" name="그룹 35"/>
          <p:cNvGrpSpPr/>
          <p:nvPr/>
        </p:nvGrpSpPr>
        <p:grpSpPr>
          <a:xfrm>
            <a:off x="714240" y="1285920"/>
            <a:ext cx="8429760" cy="468360"/>
            <a:chOff x="714240" y="1285920"/>
            <a:chExt cx="8429760" cy="468360"/>
          </a:xfrm>
        </p:grpSpPr>
        <p:grpSp>
          <p:nvGrpSpPr>
            <p:cNvPr id="1406" name="그룹 48"/>
            <p:cNvGrpSpPr/>
            <p:nvPr/>
          </p:nvGrpSpPr>
          <p:grpSpPr>
            <a:xfrm>
              <a:off x="714240" y="1352520"/>
              <a:ext cx="8429760" cy="401760"/>
              <a:chOff x="714240" y="1352520"/>
              <a:chExt cx="8429760" cy="401760"/>
            </a:xfrm>
          </p:grpSpPr>
          <p:sp>
            <p:nvSpPr>
              <p:cNvPr id="1407" name="직사각형 13"/>
              <p:cNvSpPr/>
              <p:nvPr/>
            </p:nvSpPr>
            <p:spPr>
              <a:xfrm>
                <a:off x="1403640" y="1352520"/>
                <a:ext cx="242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메타인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ta-cogni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직선 연결선 43"/>
              <p:cNvSpPr/>
              <p:nvPr/>
            </p:nvSpPr>
            <p:spPr>
              <a:xfrm>
                <a:off x="714240" y="1752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9" name="그룹 49"/>
            <p:cNvGrpSpPr/>
            <p:nvPr/>
          </p:nvGrpSpPr>
          <p:grpSpPr>
            <a:xfrm>
              <a:off x="742680" y="1361880"/>
              <a:ext cx="328320" cy="319320"/>
              <a:chOff x="742680" y="1361880"/>
              <a:chExt cx="328320" cy="319320"/>
            </a:xfrm>
          </p:grpSpPr>
          <p:sp>
            <p:nvSpPr>
              <p:cNvPr id="1410" name="AutoShape 4"/>
              <p:cNvSpPr/>
              <p:nvPr/>
            </p:nvSpPr>
            <p:spPr>
              <a:xfrm>
                <a:off x="742680" y="1361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1" name="Freeform 5"/>
              <p:cNvGrpSpPr/>
              <p:nvPr/>
            </p:nvGrpSpPr>
            <p:grpSpPr>
              <a:xfrm>
                <a:off x="755280" y="1377360"/>
                <a:ext cx="176760" cy="171000"/>
                <a:chOff x="755280" y="1377360"/>
                <a:chExt cx="176760" cy="171000"/>
              </a:xfrm>
            </p:grpSpPr>
            <p:pic>
              <p:nvPicPr>
                <p:cNvPr id="141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55280" y="137736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3" name=""/>
                <p:cNvSpPr/>
                <p:nvPr/>
              </p:nvSpPr>
              <p:spPr>
                <a:xfrm>
                  <a:off x="762840" y="1382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4" name="TextBox 88"/>
            <p:cNvSpPr/>
            <p:nvPr/>
          </p:nvSpPr>
          <p:spPr>
            <a:xfrm>
              <a:off x="749880" y="12859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5" name="그룹 173"/>
          <p:cNvGrpSpPr/>
          <p:nvPr/>
        </p:nvGrpSpPr>
        <p:grpSpPr>
          <a:xfrm>
            <a:off x="285840" y="1928880"/>
            <a:ext cx="8572320" cy="1785960"/>
            <a:chOff x="285840" y="1928880"/>
            <a:chExt cx="8572320" cy="1785960"/>
          </a:xfrm>
        </p:grpSpPr>
        <p:grpSp>
          <p:nvGrpSpPr>
            <p:cNvPr id="1416" name="그룹 63"/>
            <p:cNvGrpSpPr/>
            <p:nvPr/>
          </p:nvGrpSpPr>
          <p:grpSpPr>
            <a:xfrm>
              <a:off x="285840" y="1928880"/>
              <a:ext cx="8572320" cy="1785960"/>
              <a:chOff x="285840" y="1928880"/>
              <a:chExt cx="8572320" cy="1785960"/>
            </a:xfrm>
          </p:grpSpPr>
          <p:grpSp>
            <p:nvGrpSpPr>
              <p:cNvPr id="1417" name="그룹 91"/>
              <p:cNvGrpSpPr/>
              <p:nvPr/>
            </p:nvGrpSpPr>
            <p:grpSpPr>
              <a:xfrm>
                <a:off x="285840" y="2132280"/>
                <a:ext cx="8572320" cy="1582560"/>
                <a:chOff x="285840" y="2132280"/>
                <a:chExt cx="8572320" cy="1582560"/>
              </a:xfrm>
            </p:grpSpPr>
            <p:pic>
              <p:nvPicPr>
                <p:cNvPr id="141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32280"/>
                  <a:ext cx="8501040" cy="1582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19" name="직사각형 62"/>
                <p:cNvSpPr/>
                <p:nvPr/>
              </p:nvSpPr>
              <p:spPr>
                <a:xfrm>
                  <a:off x="1143000" y="23130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사고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능력과 약점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언제 어느 장면에서 적용할 것인가에 대한 지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21" name="그룹 91"/>
                <p:cNvGrpSpPr/>
                <p:nvPr/>
              </p:nvGrpSpPr>
              <p:grpSpPr>
                <a:xfrm>
                  <a:off x="928440" y="1928880"/>
                  <a:ext cx="2035800" cy="551160"/>
                  <a:chOff x="928440" y="1928880"/>
                  <a:chExt cx="2035800" cy="551160"/>
                </a:xfrm>
              </p:grpSpPr>
              <p:grpSp>
                <p:nvGrpSpPr>
                  <p:cNvPr id="1422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42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24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25" name="직사각형 58"/>
                  <p:cNvSpPr/>
                  <p:nvPr/>
                </p:nvSpPr>
                <p:spPr>
                  <a:xfrm>
                    <a:off x="1585800" y="1928880"/>
                    <a:ext cx="1378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에 관한 지식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26" name="직선 연결선 56"/>
                <p:cNvSpPr/>
                <p:nvPr/>
              </p:nvSpPr>
              <p:spPr>
                <a:xfrm flipV="1">
                  <a:off x="5143320" y="2201760"/>
                  <a:ext cx="3359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7" name="타원 46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428" name="타원 4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9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0" name="타원 52"/>
            <p:cNvGrpSpPr/>
            <p:nvPr/>
          </p:nvGrpSpPr>
          <p:grpSpPr>
            <a:xfrm>
              <a:off x="932760" y="3102840"/>
              <a:ext cx="225360" cy="231480"/>
              <a:chOff x="932760" y="3102840"/>
              <a:chExt cx="225360" cy="231480"/>
            </a:xfrm>
          </p:grpSpPr>
          <p:pic>
            <p:nvPicPr>
              <p:cNvPr id="1431" name="타원 52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2" name=""/>
              <p:cNvSpPr/>
              <p:nvPr/>
            </p:nvSpPr>
            <p:spPr>
              <a:xfrm rot="10800000">
                <a:off x="101448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3" name="그룹 173"/>
          <p:cNvGrpSpPr/>
          <p:nvPr/>
        </p:nvGrpSpPr>
        <p:grpSpPr>
          <a:xfrm>
            <a:off x="285840" y="3929040"/>
            <a:ext cx="8572320" cy="2357640"/>
            <a:chOff x="285840" y="3929040"/>
            <a:chExt cx="8572320" cy="2357640"/>
          </a:xfrm>
        </p:grpSpPr>
        <p:grpSp>
          <p:nvGrpSpPr>
            <p:cNvPr id="1434" name="그룹 63"/>
            <p:cNvGrpSpPr/>
            <p:nvPr/>
          </p:nvGrpSpPr>
          <p:grpSpPr>
            <a:xfrm>
              <a:off x="285840" y="3929040"/>
              <a:ext cx="8572320" cy="2357640"/>
              <a:chOff x="285840" y="3929040"/>
              <a:chExt cx="8572320" cy="2357640"/>
            </a:xfrm>
          </p:grpSpPr>
          <p:grpSp>
            <p:nvGrpSpPr>
              <p:cNvPr id="1435" name="그룹 91"/>
              <p:cNvGrpSpPr/>
              <p:nvPr/>
            </p:nvGrpSpPr>
            <p:grpSpPr>
              <a:xfrm>
                <a:off x="285840" y="4132440"/>
                <a:ext cx="8572320" cy="2154240"/>
                <a:chOff x="285840" y="4132440"/>
                <a:chExt cx="8572320" cy="2154240"/>
              </a:xfrm>
            </p:grpSpPr>
            <p:pic>
              <p:nvPicPr>
                <p:cNvPr id="1436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41324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37" name="직사각형 78"/>
                <p:cNvSpPr/>
                <p:nvPr/>
              </p:nvSpPr>
              <p:spPr>
                <a:xfrm>
                  <a:off x="1143000" y="431316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목표를 설정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을 수립하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선택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평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수준을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 도중 이해여부를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8" name="그룹 44"/>
              <p:cNvGrpSpPr/>
              <p:nvPr/>
            </p:nvGrpSpPr>
            <p:grpSpPr>
              <a:xfrm>
                <a:off x="928440" y="3929040"/>
                <a:ext cx="7574040" cy="551160"/>
                <a:chOff x="928440" y="3929040"/>
                <a:chExt cx="7574040" cy="551160"/>
              </a:xfrm>
            </p:grpSpPr>
            <p:grpSp>
              <p:nvGrpSpPr>
                <p:cNvPr id="1439" name="그룹 91"/>
                <p:cNvGrpSpPr/>
                <p:nvPr/>
              </p:nvGrpSpPr>
              <p:grpSpPr>
                <a:xfrm>
                  <a:off x="928440" y="3929040"/>
                  <a:ext cx="3755520" cy="551160"/>
                  <a:chOff x="928440" y="3929040"/>
                  <a:chExt cx="3755520" cy="551160"/>
                </a:xfrm>
              </p:grpSpPr>
              <p:grpSp>
                <p:nvGrpSpPr>
                  <p:cNvPr id="1440" name="그룹 34"/>
                  <p:cNvGrpSpPr/>
                  <p:nvPr/>
                </p:nvGrpSpPr>
                <p:grpSpPr>
                  <a:xfrm>
                    <a:off x="928440" y="4033080"/>
                    <a:ext cx="349200" cy="343800"/>
                    <a:chOff x="928440" y="4033080"/>
                    <a:chExt cx="349200" cy="343800"/>
                  </a:xfrm>
                </p:grpSpPr>
                <p:pic>
                  <p:nvPicPr>
                    <p:cNvPr id="1441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4041360"/>
                      <a:ext cx="349200" cy="33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2" name="TextBox 36"/>
                    <p:cNvSpPr/>
                    <p:nvPr/>
                  </p:nvSpPr>
                  <p:spPr>
                    <a:xfrm>
                      <a:off x="957960" y="40330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3" name="직사각형 74"/>
                  <p:cNvSpPr/>
                  <p:nvPr/>
                </p:nvSpPr>
                <p:spPr>
                  <a:xfrm>
                    <a:off x="2020680" y="3929040"/>
                    <a:ext cx="26632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과정을 조절하고 통제하는 능력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4" name="직선 연결선 72"/>
                <p:cNvSpPr/>
                <p:nvPr/>
              </p:nvSpPr>
              <p:spPr>
                <a:xfrm flipV="1">
                  <a:off x="5614920" y="4201920"/>
                  <a:ext cx="2887560" cy="46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5" name="타원 67"/>
            <p:cNvGrpSpPr/>
            <p:nvPr/>
          </p:nvGrpSpPr>
          <p:grpSpPr>
            <a:xfrm>
              <a:off x="932760" y="4584240"/>
              <a:ext cx="225360" cy="237600"/>
              <a:chOff x="932760" y="4584240"/>
              <a:chExt cx="225360" cy="237600"/>
            </a:xfrm>
          </p:grpSpPr>
          <p:pic>
            <p:nvPicPr>
              <p:cNvPr id="1446" name="타원 67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4584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7" name=""/>
              <p:cNvSpPr/>
              <p:nvPr/>
            </p:nvSpPr>
            <p:spPr>
              <a:xfrm rot="10800000">
                <a:off x="1014480" y="464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8" name="타원 68"/>
            <p:cNvGrpSpPr/>
            <p:nvPr/>
          </p:nvGrpSpPr>
          <p:grpSpPr>
            <a:xfrm>
              <a:off x="932760" y="5102280"/>
              <a:ext cx="225360" cy="231480"/>
              <a:chOff x="932760" y="5102280"/>
              <a:chExt cx="225360" cy="231480"/>
            </a:xfrm>
          </p:grpSpPr>
          <p:pic>
            <p:nvPicPr>
              <p:cNvPr id="1449" name="타원 68" descr=""/>
              <p:cNvPicPr/>
              <p:nvPr/>
            </p:nvPicPr>
            <p:blipFill>
              <a:blip r:embed="rId10"/>
              <a:stretch/>
            </p:blipFill>
            <p:spPr>
              <a:xfrm>
                <a:off x="932760" y="5102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0" name=""/>
              <p:cNvSpPr/>
              <p:nvPr/>
            </p:nvSpPr>
            <p:spPr>
              <a:xfrm rot="10800000">
                <a:off x="1014480" y="5157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1" name="타원 80"/>
            <p:cNvGrpSpPr/>
            <p:nvPr/>
          </p:nvGrpSpPr>
          <p:grpSpPr>
            <a:xfrm>
              <a:off x="932760" y="5675760"/>
              <a:ext cx="225360" cy="231480"/>
              <a:chOff x="932760" y="5675760"/>
              <a:chExt cx="225360" cy="231480"/>
            </a:xfrm>
          </p:grpSpPr>
          <p:pic>
            <p:nvPicPr>
              <p:cNvPr id="1452" name="타원 80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760" y="5675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014480" y="572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5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45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57" name="직사각형 13"/>
              <p:cNvSpPr/>
              <p:nvPr/>
            </p:nvSpPr>
            <p:spPr>
              <a:xfrm>
                <a:off x="1422000" y="1385640"/>
                <a:ext cx="312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eca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or fad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직선 연결선 2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그룹 173"/>
          <p:cNvGrpSpPr/>
          <p:nvPr/>
        </p:nvGrpSpPr>
        <p:grpSpPr>
          <a:xfrm>
            <a:off x="285840" y="2000160"/>
            <a:ext cx="8643960" cy="1500120"/>
            <a:chOff x="285840" y="2000160"/>
            <a:chExt cx="8643960" cy="1500120"/>
          </a:xfrm>
        </p:grpSpPr>
        <p:grpSp>
          <p:nvGrpSpPr>
            <p:cNvPr id="1466" name="그룹 91"/>
            <p:cNvGrpSpPr/>
            <p:nvPr/>
          </p:nvGrpSpPr>
          <p:grpSpPr>
            <a:xfrm>
              <a:off x="285840" y="2000160"/>
              <a:ext cx="8643960" cy="1500120"/>
              <a:chOff x="285840" y="2000160"/>
              <a:chExt cx="8643960" cy="1500120"/>
            </a:xfrm>
          </p:grpSpPr>
          <p:pic>
            <p:nvPicPr>
              <p:cNvPr id="1467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00016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68" name="직사각형 52"/>
              <p:cNvSpPr/>
              <p:nvPr/>
            </p:nvSpPr>
            <p:spPr>
              <a:xfrm>
                <a:off x="1143000" y="2071440"/>
                <a:ext cx="77155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흔적이 시간경과에 따라 사라지기 때문에 망각이 일어난다고 보는 관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내용에 대한 충분한 반복연습이 필요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9" name="타원 41"/>
            <p:cNvGrpSpPr/>
            <p:nvPr/>
          </p:nvGrpSpPr>
          <p:grpSpPr>
            <a:xfrm>
              <a:off x="932760" y="2359080"/>
              <a:ext cx="225360" cy="231480"/>
              <a:chOff x="932760" y="2359080"/>
              <a:chExt cx="225360" cy="231480"/>
            </a:xfrm>
          </p:grpSpPr>
          <p:pic>
            <p:nvPicPr>
              <p:cNvPr id="1470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1" name=""/>
              <p:cNvSpPr/>
              <p:nvPr/>
            </p:nvSpPr>
            <p:spPr>
              <a:xfrm rot="10800000">
                <a:off x="1014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2" name="타원 42"/>
            <p:cNvGrpSpPr/>
            <p:nvPr/>
          </p:nvGrpSpPr>
          <p:grpSpPr>
            <a:xfrm>
              <a:off x="932760" y="2883240"/>
              <a:ext cx="225360" cy="237600"/>
              <a:chOff x="932760" y="2883240"/>
              <a:chExt cx="225360" cy="237600"/>
            </a:xfrm>
          </p:grpSpPr>
          <p:pic>
            <p:nvPicPr>
              <p:cNvPr id="1473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83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4" name=""/>
              <p:cNvSpPr/>
              <p:nvPr/>
            </p:nvSpPr>
            <p:spPr>
              <a:xfrm rot="10800000">
                <a:off x="1014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5" name="그룹 35"/>
          <p:cNvGrpSpPr/>
          <p:nvPr/>
        </p:nvGrpSpPr>
        <p:grpSpPr>
          <a:xfrm>
            <a:off x="642960" y="4071960"/>
            <a:ext cx="8429760" cy="468360"/>
            <a:chOff x="642960" y="4071960"/>
            <a:chExt cx="8429760" cy="468360"/>
          </a:xfrm>
        </p:grpSpPr>
        <p:grpSp>
          <p:nvGrpSpPr>
            <p:cNvPr id="1476" name="그룹 48"/>
            <p:cNvGrpSpPr/>
            <p:nvPr/>
          </p:nvGrpSpPr>
          <p:grpSpPr>
            <a:xfrm>
              <a:off x="642960" y="4138560"/>
              <a:ext cx="8429760" cy="401760"/>
              <a:chOff x="642960" y="4138560"/>
              <a:chExt cx="8429760" cy="401760"/>
            </a:xfrm>
          </p:grpSpPr>
          <p:sp>
            <p:nvSpPr>
              <p:cNvPr id="1477" name="직사각형 13"/>
              <p:cNvSpPr/>
              <p:nvPr/>
            </p:nvSpPr>
            <p:spPr>
              <a:xfrm>
                <a:off x="1349640" y="4138560"/>
                <a:ext cx="320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포섭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literat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ubsump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직선 연결선 60"/>
              <p:cNvSpPr/>
              <p:nvPr/>
            </p:nvSpPr>
            <p:spPr>
              <a:xfrm>
                <a:off x="642960" y="45388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그룹 49"/>
            <p:cNvGrpSpPr/>
            <p:nvPr/>
          </p:nvGrpSpPr>
          <p:grpSpPr>
            <a:xfrm>
              <a:off x="671400" y="4147920"/>
              <a:ext cx="328320" cy="319320"/>
              <a:chOff x="671400" y="4147920"/>
              <a:chExt cx="328320" cy="319320"/>
            </a:xfrm>
          </p:grpSpPr>
          <p:sp>
            <p:nvSpPr>
              <p:cNvPr id="1480" name="AutoShape 4"/>
              <p:cNvSpPr/>
              <p:nvPr/>
            </p:nvSpPr>
            <p:spPr>
              <a:xfrm>
                <a:off x="671400" y="41479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1" name="Freeform 5"/>
              <p:cNvGrpSpPr/>
              <p:nvPr/>
            </p:nvGrpSpPr>
            <p:grpSpPr>
              <a:xfrm>
                <a:off x="688680" y="4163040"/>
                <a:ext cx="170640" cy="171000"/>
                <a:chOff x="688680" y="4163040"/>
                <a:chExt cx="170640" cy="171000"/>
              </a:xfrm>
            </p:grpSpPr>
            <p:pic>
              <p:nvPicPr>
                <p:cNvPr id="148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630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3" name=""/>
                <p:cNvSpPr/>
                <p:nvPr/>
              </p:nvSpPr>
              <p:spPr>
                <a:xfrm>
                  <a:off x="691920" y="416808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4" name="TextBox 88"/>
            <p:cNvSpPr/>
            <p:nvPr/>
          </p:nvSpPr>
          <p:spPr>
            <a:xfrm>
              <a:off x="678600" y="4071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5" name="그룹 173"/>
          <p:cNvGrpSpPr/>
          <p:nvPr/>
        </p:nvGrpSpPr>
        <p:grpSpPr>
          <a:xfrm>
            <a:off x="285840" y="4753080"/>
            <a:ext cx="8715240" cy="1500120"/>
            <a:chOff x="285840" y="4753080"/>
            <a:chExt cx="8715240" cy="1500120"/>
          </a:xfrm>
        </p:grpSpPr>
        <p:grpSp>
          <p:nvGrpSpPr>
            <p:cNvPr id="1486" name="그룹 91"/>
            <p:cNvGrpSpPr/>
            <p:nvPr/>
          </p:nvGrpSpPr>
          <p:grpSpPr>
            <a:xfrm>
              <a:off x="285840" y="4753080"/>
              <a:ext cx="8715240" cy="1500120"/>
              <a:chOff x="285840" y="4753080"/>
              <a:chExt cx="8715240" cy="1500120"/>
            </a:xfrm>
          </p:grpSpPr>
          <p:pic>
            <p:nvPicPr>
              <p:cNvPr id="1487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75308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88" name="직사각형 66"/>
              <p:cNvSpPr/>
              <p:nvPr/>
            </p:nvSpPr>
            <p:spPr>
              <a:xfrm>
                <a:off x="1143000" y="4824360"/>
                <a:ext cx="7858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는 기존의 인지구조에 통합되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변별력을 상실하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자료의 특이성을 높여 차별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9" name="타원 63"/>
            <p:cNvGrpSpPr/>
            <p:nvPr/>
          </p:nvGrpSpPr>
          <p:grpSpPr>
            <a:xfrm>
              <a:off x="932760" y="5114520"/>
              <a:ext cx="225360" cy="231480"/>
              <a:chOff x="932760" y="5114520"/>
              <a:chExt cx="225360" cy="231480"/>
            </a:xfrm>
          </p:grpSpPr>
          <p:pic>
            <p:nvPicPr>
              <p:cNvPr id="1490" name="타원 63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114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1" name=""/>
              <p:cNvSpPr/>
              <p:nvPr/>
            </p:nvSpPr>
            <p:spPr>
              <a:xfrm rot="10800000">
                <a:off x="1014480" y="5169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2" name="타원 64"/>
            <p:cNvGrpSpPr/>
            <p:nvPr/>
          </p:nvGrpSpPr>
          <p:grpSpPr>
            <a:xfrm>
              <a:off x="932760" y="5639040"/>
              <a:ext cx="225360" cy="231480"/>
              <a:chOff x="932760" y="5639040"/>
              <a:chExt cx="225360" cy="231480"/>
            </a:xfrm>
          </p:grpSpPr>
          <p:pic>
            <p:nvPicPr>
              <p:cNvPr id="1493" name="타원 64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63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4" name=""/>
              <p:cNvSpPr/>
              <p:nvPr/>
            </p:nvSpPr>
            <p:spPr>
              <a:xfrm rot="10800000">
                <a:off x="1014480" y="5696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96" name="그룹 35"/>
          <p:cNvGrpSpPr/>
          <p:nvPr/>
        </p:nvGrpSpPr>
        <p:grpSpPr>
          <a:xfrm>
            <a:off x="642960" y="1214280"/>
            <a:ext cx="8429760" cy="468360"/>
            <a:chOff x="642960" y="1214280"/>
            <a:chExt cx="8429760" cy="468360"/>
          </a:xfrm>
        </p:grpSpPr>
        <p:grpSp>
          <p:nvGrpSpPr>
            <p:cNvPr id="1497" name="그룹 48"/>
            <p:cNvGrpSpPr/>
            <p:nvPr/>
          </p:nvGrpSpPr>
          <p:grpSpPr>
            <a:xfrm>
              <a:off x="642960" y="1280880"/>
              <a:ext cx="8429760" cy="401760"/>
              <a:chOff x="642960" y="1280880"/>
              <a:chExt cx="8429760" cy="401760"/>
            </a:xfrm>
          </p:grpSpPr>
          <p:sp>
            <p:nvSpPr>
              <p:cNvPr id="1498" name="직사각형 13"/>
              <p:cNvSpPr/>
              <p:nvPr/>
            </p:nvSpPr>
            <p:spPr>
              <a:xfrm>
                <a:off x="1161720" y="128088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억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press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직선 연결선 35"/>
              <p:cNvSpPr/>
              <p:nvPr/>
            </p:nvSpPr>
            <p:spPr>
              <a:xfrm>
                <a:off x="642960" y="1681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0" name="그룹 49"/>
            <p:cNvGrpSpPr/>
            <p:nvPr/>
          </p:nvGrpSpPr>
          <p:grpSpPr>
            <a:xfrm>
              <a:off x="671400" y="1290240"/>
              <a:ext cx="328320" cy="319320"/>
              <a:chOff x="671400" y="1290240"/>
              <a:chExt cx="328320" cy="319320"/>
            </a:xfrm>
          </p:grpSpPr>
          <p:sp>
            <p:nvSpPr>
              <p:cNvPr id="1501" name="AutoShape 4"/>
              <p:cNvSpPr/>
              <p:nvPr/>
            </p:nvSpPr>
            <p:spPr>
              <a:xfrm>
                <a:off x="671400" y="1290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2" name="Freeform 5"/>
              <p:cNvGrpSpPr/>
              <p:nvPr/>
            </p:nvGrpSpPr>
            <p:grpSpPr>
              <a:xfrm>
                <a:off x="688680" y="1303920"/>
                <a:ext cx="170640" cy="171000"/>
                <a:chOff x="688680" y="1303920"/>
                <a:chExt cx="170640" cy="171000"/>
              </a:xfrm>
            </p:grpSpPr>
            <p:pic>
              <p:nvPicPr>
                <p:cNvPr id="150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30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4" name=""/>
                <p:cNvSpPr/>
                <p:nvPr/>
              </p:nvSpPr>
              <p:spPr>
                <a:xfrm>
                  <a:off x="691920" y="131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6" name="그룹 173"/>
          <p:cNvGrpSpPr/>
          <p:nvPr/>
        </p:nvGrpSpPr>
        <p:grpSpPr>
          <a:xfrm>
            <a:off x="285840" y="1714680"/>
            <a:ext cx="8572320" cy="1643040"/>
            <a:chOff x="285840" y="1714680"/>
            <a:chExt cx="8572320" cy="1643040"/>
          </a:xfrm>
        </p:grpSpPr>
        <p:grpSp>
          <p:nvGrpSpPr>
            <p:cNvPr id="1507" name="그룹 91"/>
            <p:cNvGrpSpPr/>
            <p:nvPr/>
          </p:nvGrpSpPr>
          <p:grpSpPr>
            <a:xfrm>
              <a:off x="285840" y="1714680"/>
              <a:ext cx="8572320" cy="1643040"/>
              <a:chOff x="285840" y="1714680"/>
              <a:chExt cx="8572320" cy="1643040"/>
            </a:xfrm>
          </p:grpSpPr>
          <p:pic>
            <p:nvPicPr>
              <p:cNvPr id="1508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85724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09" name="직사각형 41"/>
              <p:cNvSpPr/>
              <p:nvPr/>
            </p:nvSpPr>
            <p:spPr>
              <a:xfrm>
                <a:off x="1143000" y="171468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통스러운 경험이나 불쾌한 경험이 무의식 속으로 억압되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기화된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들에게 외상적인 경험이나 불쾌한 경험을 제공하지 않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0" name="타원 38"/>
            <p:cNvGrpSpPr/>
            <p:nvPr/>
          </p:nvGrpSpPr>
          <p:grpSpPr>
            <a:xfrm>
              <a:off x="932760" y="1999440"/>
              <a:ext cx="225360" cy="237600"/>
              <a:chOff x="932760" y="1999440"/>
              <a:chExt cx="225360" cy="237600"/>
            </a:xfrm>
          </p:grpSpPr>
          <p:pic>
            <p:nvPicPr>
              <p:cNvPr id="1511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1999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2" name=""/>
              <p:cNvSpPr/>
              <p:nvPr/>
            </p:nvSpPr>
            <p:spPr>
              <a:xfrm rot="10800000">
                <a:off x="1014480" y="2059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3" name="타원 39"/>
            <p:cNvGrpSpPr/>
            <p:nvPr/>
          </p:nvGrpSpPr>
          <p:grpSpPr>
            <a:xfrm>
              <a:off x="932760" y="2816640"/>
              <a:ext cx="225360" cy="231480"/>
              <a:chOff x="932760" y="2816640"/>
              <a:chExt cx="225360" cy="231480"/>
            </a:xfrm>
          </p:grpSpPr>
          <p:pic>
            <p:nvPicPr>
              <p:cNvPr id="1514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5" name=""/>
              <p:cNvSpPr/>
              <p:nvPr/>
            </p:nvSpPr>
            <p:spPr>
              <a:xfrm rot="10800000">
                <a:off x="1014480" y="2872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6" name="그룹 35"/>
          <p:cNvGrpSpPr/>
          <p:nvPr/>
        </p:nvGrpSpPr>
        <p:grpSpPr>
          <a:xfrm>
            <a:off x="642960" y="3675240"/>
            <a:ext cx="8429760" cy="468000"/>
            <a:chOff x="642960" y="3675240"/>
            <a:chExt cx="8429760" cy="46800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3741840"/>
              <a:ext cx="8429760" cy="401400"/>
              <a:chOff x="642960" y="3741840"/>
              <a:chExt cx="8429760" cy="401400"/>
            </a:xfrm>
          </p:grpSpPr>
          <p:sp>
            <p:nvSpPr>
              <p:cNvPr id="1518" name="직사각형 13"/>
              <p:cNvSpPr/>
              <p:nvPr/>
            </p:nvSpPr>
            <p:spPr>
              <a:xfrm>
                <a:off x="1352160" y="3741840"/>
                <a:ext cx="281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간섭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terfere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49"/>
              <p:cNvSpPr/>
              <p:nvPr/>
            </p:nvSpPr>
            <p:spPr>
              <a:xfrm>
                <a:off x="642960" y="4141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3751200"/>
              <a:ext cx="328320" cy="318960"/>
              <a:chOff x="671400" y="3751200"/>
              <a:chExt cx="328320" cy="31896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375120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3767040"/>
                <a:ext cx="170640" cy="170640"/>
                <a:chOff x="688680" y="3767040"/>
                <a:chExt cx="170640" cy="17064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376704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377136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600" y="3675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173"/>
          <p:cNvGrpSpPr/>
          <p:nvPr/>
        </p:nvGrpSpPr>
        <p:grpSpPr>
          <a:xfrm>
            <a:off x="285840" y="4138560"/>
            <a:ext cx="8858160" cy="2505240"/>
            <a:chOff x="285840" y="4138560"/>
            <a:chExt cx="8858160" cy="25052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285840" y="4138560"/>
              <a:ext cx="8858160" cy="2505240"/>
              <a:chOff x="285840" y="4138560"/>
              <a:chExt cx="8858160" cy="25052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429080"/>
                <a:ext cx="8501040" cy="2214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29" name="직사각형 55"/>
              <p:cNvSpPr/>
              <p:nvPr/>
            </p:nvSpPr>
            <p:spPr>
              <a:xfrm>
                <a:off x="1143000" y="4138560"/>
                <a:ext cx="800100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 속에 저장된 항목들 사이의 혼동으로 인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제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과제를 기존과제와 차별화해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0" name="타원 52"/>
            <p:cNvGrpSpPr/>
            <p:nvPr/>
          </p:nvGrpSpPr>
          <p:grpSpPr>
            <a:xfrm>
              <a:off x="932760" y="4456080"/>
              <a:ext cx="225360" cy="231480"/>
              <a:chOff x="932760" y="4456080"/>
              <a:chExt cx="225360" cy="231480"/>
            </a:xfrm>
          </p:grpSpPr>
          <p:pic>
            <p:nvPicPr>
              <p:cNvPr id="1531" name="타원 52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45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2" name=""/>
              <p:cNvSpPr/>
              <p:nvPr/>
            </p:nvSpPr>
            <p:spPr>
              <a:xfrm rot="10800000">
                <a:off x="1014480" y="4514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3" name="타원 53"/>
            <p:cNvGrpSpPr/>
            <p:nvPr/>
          </p:nvGrpSpPr>
          <p:grpSpPr>
            <a:xfrm>
              <a:off x="932760" y="6242400"/>
              <a:ext cx="225360" cy="231480"/>
              <a:chOff x="932760" y="6242400"/>
              <a:chExt cx="225360" cy="231480"/>
            </a:xfrm>
          </p:grpSpPr>
          <p:pic>
            <p:nvPicPr>
              <p:cNvPr id="1534" name="타원 53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42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5" name=""/>
              <p:cNvSpPr/>
              <p:nvPr/>
            </p:nvSpPr>
            <p:spPr>
              <a:xfrm rot="10800000">
                <a:off x="1014480" y="630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6" name="그룹 29"/>
          <p:cNvGrpSpPr/>
          <p:nvPr/>
        </p:nvGrpSpPr>
        <p:grpSpPr>
          <a:xfrm>
            <a:off x="1500120" y="4916520"/>
            <a:ext cx="5929560" cy="1001160"/>
            <a:chOff x="1500120" y="4916520"/>
            <a:chExt cx="5929560" cy="1001160"/>
          </a:xfrm>
        </p:grpSpPr>
        <p:grpSp>
          <p:nvGrpSpPr>
            <p:cNvPr id="1537" name="모서리가 둥근 직사각형 18"/>
            <p:cNvGrpSpPr/>
            <p:nvPr/>
          </p:nvGrpSpPr>
          <p:grpSpPr>
            <a:xfrm>
              <a:off x="1500120" y="4916520"/>
              <a:ext cx="2023200" cy="857520"/>
              <a:chOff x="1500120" y="4916520"/>
              <a:chExt cx="2023200" cy="857520"/>
            </a:xfrm>
          </p:grpSpPr>
          <p:pic>
            <p:nvPicPr>
              <p:cNvPr id="1538" name="모서리가 둥근 직사각형 18" descr=""/>
              <p:cNvPicPr/>
              <p:nvPr/>
            </p:nvPicPr>
            <p:blipFill>
              <a:blip r:embed="rId10"/>
              <a:stretch/>
            </p:blipFill>
            <p:spPr>
              <a:xfrm>
                <a:off x="1500120" y="4916520"/>
                <a:ext cx="2023200" cy="85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9" name=""/>
              <p:cNvSpPr/>
              <p:nvPr/>
            </p:nvSpPr>
            <p:spPr>
              <a:xfrm>
                <a:off x="1659960" y="5043240"/>
                <a:ext cx="1708920" cy="58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선행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0" name="모서리가 둥근 직사각형 19"/>
            <p:cNvGrpSpPr/>
            <p:nvPr/>
          </p:nvGrpSpPr>
          <p:grpSpPr>
            <a:xfrm>
              <a:off x="5546880" y="4916520"/>
              <a:ext cx="1882800" cy="923760"/>
              <a:chOff x="5546880" y="4916520"/>
              <a:chExt cx="1882800" cy="923760"/>
            </a:xfrm>
          </p:grpSpPr>
          <p:pic>
            <p:nvPicPr>
              <p:cNvPr id="1541" name="모서리가 둥근 직사각형 19" descr=""/>
              <p:cNvPicPr/>
              <p:nvPr/>
            </p:nvPicPr>
            <p:blipFill>
              <a:blip r:embed="rId11"/>
              <a:stretch/>
            </p:blipFill>
            <p:spPr>
              <a:xfrm>
                <a:off x="5546880" y="4916520"/>
                <a:ext cx="1882800" cy="92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2" name=""/>
              <p:cNvSpPr/>
              <p:nvPr/>
            </p:nvSpPr>
            <p:spPr>
              <a:xfrm>
                <a:off x="5706720" y="5046480"/>
                <a:ext cx="156420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후속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543" name="직선 화살표 연결선 22"/>
            <p:cNvCxnSpPr/>
            <p:nvPr/>
          </p:nvCxnSpPr>
          <p:spPr>
            <a:xfrm>
              <a:off x="3678840" y="518904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4" name="직선 화살표 연결선 28"/>
            <p:cNvCxnSpPr/>
            <p:nvPr/>
          </p:nvCxnSpPr>
          <p:spPr>
            <a:xfrm flipH="1">
              <a:off x="3678480" y="554940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5" name="TextBox 26"/>
            <p:cNvSpPr/>
            <p:nvPr/>
          </p:nvSpPr>
          <p:spPr>
            <a:xfrm>
              <a:off x="4188600" y="5000760"/>
              <a:ext cx="729360" cy="91692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순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역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6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4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54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49" name="직사각형 13"/>
              <p:cNvSpPr/>
              <p:nvPr/>
            </p:nvSpPr>
            <p:spPr>
              <a:xfrm>
                <a:off x="1474200" y="1385640"/>
                <a:ext cx="3408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출실패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trieval failure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5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5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그룹 173"/>
          <p:cNvGrpSpPr/>
          <p:nvPr/>
        </p:nvGrpSpPr>
        <p:grpSpPr>
          <a:xfrm>
            <a:off x="285840" y="1857240"/>
            <a:ext cx="8572320" cy="4357800"/>
            <a:chOff x="285840" y="1857240"/>
            <a:chExt cx="8572320" cy="4357800"/>
          </a:xfrm>
        </p:grpSpPr>
        <p:grpSp>
          <p:nvGrpSpPr>
            <p:cNvPr id="1558" name="그룹 91"/>
            <p:cNvGrpSpPr/>
            <p:nvPr/>
          </p:nvGrpSpPr>
          <p:grpSpPr>
            <a:xfrm>
              <a:off x="285840" y="1857240"/>
              <a:ext cx="8572320" cy="4357800"/>
              <a:chOff x="285840" y="1857240"/>
              <a:chExt cx="8572320" cy="4357800"/>
            </a:xfrm>
          </p:grpSpPr>
          <p:pic>
            <p:nvPicPr>
              <p:cNvPr id="155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999800"/>
                <a:ext cx="85010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60" name="직사각형 24"/>
              <p:cNvSpPr/>
              <p:nvPr/>
            </p:nvSpPr>
            <p:spPr>
              <a:xfrm>
                <a:off x="1143000" y="1857240"/>
                <a:ext cx="7715160" cy="36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에 저장되어 있는 내용을 인출할 수 없어서 망각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인출단서의 상실에서 비롯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서의존적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단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유의미하게 부호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렇게 하면 인출단서가 풍부해지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확률이 높아진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1" name="타원 21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562" name="타원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3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4" name="타원 22"/>
            <p:cNvGrpSpPr/>
            <p:nvPr/>
          </p:nvGrpSpPr>
          <p:grpSpPr>
            <a:xfrm>
              <a:off x="932760" y="4742640"/>
              <a:ext cx="225360" cy="231480"/>
              <a:chOff x="932760" y="4742640"/>
              <a:chExt cx="225360" cy="231480"/>
            </a:xfrm>
          </p:grpSpPr>
          <p:pic>
            <p:nvPicPr>
              <p:cNvPr id="1565" name="타원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4742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6" name=""/>
              <p:cNvSpPr/>
              <p:nvPr/>
            </p:nvSpPr>
            <p:spPr>
              <a:xfrm rot="10800000">
                <a:off x="1014480" y="4800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7" name="그룹 30"/>
          <p:cNvGrpSpPr/>
          <p:nvPr/>
        </p:nvGrpSpPr>
        <p:grpSpPr>
          <a:xfrm>
            <a:off x="978480" y="3071880"/>
            <a:ext cx="7792560" cy="1188720"/>
            <a:chOff x="978480" y="3071880"/>
            <a:chExt cx="7792560" cy="1188720"/>
          </a:xfrm>
        </p:grpSpPr>
        <p:grpSp>
          <p:nvGrpSpPr>
            <p:cNvPr id="1568" name="그룹 142"/>
            <p:cNvGrpSpPr/>
            <p:nvPr/>
          </p:nvGrpSpPr>
          <p:grpSpPr>
            <a:xfrm>
              <a:off x="978480" y="3071880"/>
              <a:ext cx="1276920" cy="505440"/>
              <a:chOff x="978480" y="3071880"/>
              <a:chExt cx="1276920" cy="505440"/>
            </a:xfrm>
          </p:grpSpPr>
          <p:grpSp>
            <p:nvGrpSpPr>
              <p:cNvPr id="1569" name="그룹 97"/>
              <p:cNvGrpSpPr/>
              <p:nvPr/>
            </p:nvGrpSpPr>
            <p:grpSpPr>
              <a:xfrm>
                <a:off x="978480" y="3168000"/>
                <a:ext cx="340920" cy="307080"/>
                <a:chOff x="978480" y="3168000"/>
                <a:chExt cx="340920" cy="307080"/>
              </a:xfrm>
            </p:grpSpPr>
            <p:pic>
              <p:nvPicPr>
                <p:cNvPr id="1570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99720" y="318780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1" name="TextBox 146"/>
                <p:cNvSpPr/>
                <p:nvPr/>
              </p:nvSpPr>
              <p:spPr>
                <a:xfrm>
                  <a:off x="978480" y="316800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2" name="직사각형 35"/>
              <p:cNvSpPr/>
              <p:nvPr/>
            </p:nvSpPr>
            <p:spPr>
              <a:xfrm>
                <a:off x="1329480" y="3071880"/>
                <a:ext cx="925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과 재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3" name="직선 연결선 28"/>
            <p:cNvSpPr/>
            <p:nvPr/>
          </p:nvSpPr>
          <p:spPr>
            <a:xfrm>
              <a:off x="3000600" y="3357360"/>
              <a:ext cx="5415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4" name="그룹 114"/>
            <p:cNvGrpSpPr/>
            <p:nvPr/>
          </p:nvGrpSpPr>
          <p:grpSpPr>
            <a:xfrm>
              <a:off x="1362240" y="3436560"/>
              <a:ext cx="7408800" cy="824040"/>
              <a:chOff x="1362240" y="3436560"/>
              <a:chExt cx="7408800" cy="824040"/>
            </a:xfrm>
          </p:grpSpPr>
          <p:sp>
            <p:nvSpPr>
              <p:cNvPr id="1575" name="직사각형 37"/>
              <p:cNvSpPr/>
              <p:nvPr/>
            </p:nvSpPr>
            <p:spPr>
              <a:xfrm>
                <a:off x="1599120" y="343656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all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저장되어 있는 내용을 단서 없이 상기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인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ognition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여러 항목들을 제시한 다음 기억하고 있는 것을 선택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6" name="타원 31"/>
              <p:cNvGrpSpPr/>
              <p:nvPr/>
            </p:nvGrpSpPr>
            <p:grpSpPr>
              <a:xfrm>
                <a:off x="1362240" y="3578040"/>
                <a:ext cx="229320" cy="231480"/>
                <a:chOff x="1362240" y="3578040"/>
                <a:chExt cx="229320" cy="231480"/>
              </a:xfrm>
            </p:grpSpPr>
            <p:pic>
              <p:nvPicPr>
                <p:cNvPr id="1577" name="타원 3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2240" y="3578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8" name=""/>
                <p:cNvSpPr/>
                <p:nvPr/>
              </p:nvSpPr>
              <p:spPr>
                <a:xfrm rot="10800000">
                  <a:off x="1445040" y="36374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9" name="타원 32"/>
              <p:cNvGrpSpPr/>
              <p:nvPr/>
            </p:nvGrpSpPr>
            <p:grpSpPr>
              <a:xfrm>
                <a:off x="1362240" y="3962520"/>
                <a:ext cx="229320" cy="231480"/>
                <a:chOff x="1362240" y="3962520"/>
                <a:chExt cx="229320" cy="231480"/>
              </a:xfrm>
            </p:grpSpPr>
            <p:pic>
              <p:nvPicPr>
                <p:cNvPr id="1580" name="타원 3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2240" y="3962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1" name=""/>
                <p:cNvSpPr/>
                <p:nvPr/>
              </p:nvSpPr>
              <p:spPr>
                <a:xfrm rot="10800000">
                  <a:off x="1445040" y="4019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TextBox 12" descr=""/>
          <p:cNvPicPr/>
          <p:nvPr/>
        </p:nvPicPr>
        <p:blipFill>
          <a:blip r:embed="rId1"/>
          <a:stretch/>
        </p:blipFill>
        <p:spPr>
          <a:xfrm>
            <a:off x="5407200" y="506520"/>
            <a:ext cx="3792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8" name="직사각형 13"/>
              <p:cNvSpPr/>
              <p:nvPr/>
            </p:nvSpPr>
            <p:spPr>
              <a:xfrm>
                <a:off x="1415880" y="1385640"/>
                <a:ext cx="311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심리학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sycholog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24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797" name="그룹 34"/>
            <p:cNvGrpSpPr/>
            <p:nvPr/>
          </p:nvGrpSpPr>
          <p:grpSpPr>
            <a:xfrm>
              <a:off x="285840" y="2203200"/>
              <a:ext cx="8501040" cy="1368720"/>
              <a:chOff x="285840" y="2203200"/>
              <a:chExt cx="8501040" cy="1368720"/>
            </a:xfrm>
          </p:grpSpPr>
          <p:grpSp>
            <p:nvGrpSpPr>
              <p:cNvPr id="798" name="그룹 91"/>
              <p:cNvGrpSpPr/>
              <p:nvPr/>
            </p:nvGrpSpPr>
            <p:grpSpPr>
              <a:xfrm>
                <a:off x="285840" y="2203200"/>
                <a:ext cx="8501040" cy="1368720"/>
                <a:chOff x="285840" y="2203200"/>
                <a:chExt cx="8501040" cy="1368720"/>
              </a:xfrm>
            </p:grpSpPr>
            <p:pic>
              <p:nvPicPr>
                <p:cNvPr id="79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200"/>
                  <a:ext cx="8501040" cy="13687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0" name="직사각형 36"/>
                <p:cNvSpPr/>
                <p:nvPr/>
              </p:nvSpPr>
              <p:spPr>
                <a:xfrm>
                  <a:off x="1214280" y="254592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신과정과 정신구조를 과학적으로 분석함으로써 인간행동을 이해하는 접근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어떤 과정을 통해서 지식을 획득한 지식을 활용하는지 탐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1" name="오른쪽 화살표 34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802" name="오른쪽 화살표 3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3" name=""/>
                <p:cNvSpPr/>
                <p:nvPr/>
              </p:nvSpPr>
              <p:spPr>
                <a:xfrm>
                  <a:off x="928440" y="2752200"/>
                  <a:ext cx="1760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05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806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807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8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직사각형 30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직선 연결선 28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1" name="그룹 37"/>
          <p:cNvGrpSpPr/>
          <p:nvPr/>
        </p:nvGrpSpPr>
        <p:grpSpPr>
          <a:xfrm>
            <a:off x="285840" y="3857760"/>
            <a:ext cx="8501040" cy="2143080"/>
            <a:chOff x="285840" y="3857760"/>
            <a:chExt cx="8501040" cy="2143080"/>
          </a:xfrm>
        </p:grpSpPr>
        <p:grpSp>
          <p:nvGrpSpPr>
            <p:cNvPr id="812" name="그룹 37"/>
            <p:cNvGrpSpPr/>
            <p:nvPr/>
          </p:nvGrpSpPr>
          <p:grpSpPr>
            <a:xfrm>
              <a:off x="285840" y="3857760"/>
              <a:ext cx="8501040" cy="2143080"/>
              <a:chOff x="285840" y="3857760"/>
              <a:chExt cx="8501040" cy="2143080"/>
            </a:xfrm>
          </p:grpSpPr>
          <p:grpSp>
            <p:nvGrpSpPr>
              <p:cNvPr id="813" name="그룹 91"/>
              <p:cNvGrpSpPr/>
              <p:nvPr/>
            </p:nvGrpSpPr>
            <p:grpSpPr>
              <a:xfrm>
                <a:off x="285840" y="4071960"/>
                <a:ext cx="8501040" cy="1928880"/>
                <a:chOff x="285840" y="4071960"/>
                <a:chExt cx="8501040" cy="1928880"/>
              </a:xfrm>
            </p:grpSpPr>
            <p:pic>
              <p:nvPicPr>
                <p:cNvPr id="81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071960"/>
                  <a:ext cx="8501040" cy="1928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15" name="직사각형 49"/>
                <p:cNvSpPr/>
                <p:nvPr/>
              </p:nvSpPr>
              <p:spPr>
                <a:xfrm>
                  <a:off x="1214280" y="431316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는 정보를 획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변형하는 정신활동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유기체를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White Box’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과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것은 인지과정을 이해할 수 있고 이해하는 것이 중요하다는 것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그룹 44"/>
              <p:cNvGrpSpPr/>
              <p:nvPr/>
            </p:nvGrpSpPr>
            <p:grpSpPr>
              <a:xfrm>
                <a:off x="928440" y="3857760"/>
                <a:ext cx="7574040" cy="551160"/>
                <a:chOff x="928440" y="3857760"/>
                <a:chExt cx="7574040" cy="551160"/>
              </a:xfrm>
            </p:grpSpPr>
            <p:grpSp>
              <p:nvGrpSpPr>
                <p:cNvPr id="817" name="그룹 91"/>
                <p:cNvGrpSpPr/>
                <p:nvPr/>
              </p:nvGrpSpPr>
              <p:grpSpPr>
                <a:xfrm>
                  <a:off x="928440" y="3857760"/>
                  <a:ext cx="845640" cy="551160"/>
                  <a:chOff x="928440" y="3857760"/>
                  <a:chExt cx="845640" cy="551160"/>
                </a:xfrm>
              </p:grpSpPr>
              <p:grpSp>
                <p:nvGrpSpPr>
                  <p:cNvPr id="818" name="그룹 34"/>
                  <p:cNvGrpSpPr/>
                  <p:nvPr/>
                </p:nvGrpSpPr>
                <p:grpSpPr>
                  <a:xfrm>
                    <a:off x="928440" y="3967200"/>
                    <a:ext cx="348840" cy="361800"/>
                    <a:chOff x="928440" y="3967200"/>
                    <a:chExt cx="348840" cy="361800"/>
                  </a:xfrm>
                </p:grpSpPr>
                <p:pic>
                  <p:nvPicPr>
                    <p:cNvPr id="81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974400"/>
                      <a:ext cx="348840" cy="35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0" name="TextBox 36"/>
                    <p:cNvSpPr/>
                    <p:nvPr/>
                  </p:nvSpPr>
                  <p:spPr>
                    <a:xfrm>
                      <a:off x="957600" y="3967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1" name="직사각형 43"/>
                  <p:cNvSpPr/>
                  <p:nvPr/>
                </p:nvSpPr>
                <p:spPr>
                  <a:xfrm>
                    <a:off x="1288440" y="38577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2" name="직선 연결선 41"/>
                <p:cNvSpPr/>
                <p:nvPr/>
              </p:nvSpPr>
              <p:spPr>
                <a:xfrm>
                  <a:off x="3214440" y="41436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3" name="타원 50"/>
            <p:cNvGrpSpPr/>
            <p:nvPr/>
          </p:nvGrpSpPr>
          <p:grpSpPr>
            <a:xfrm>
              <a:off x="1005840" y="4505040"/>
              <a:ext cx="225360" cy="231480"/>
              <a:chOff x="1005840" y="4505040"/>
              <a:chExt cx="225360" cy="231480"/>
            </a:xfrm>
          </p:grpSpPr>
          <p:pic>
            <p:nvPicPr>
              <p:cNvPr id="824" name="타원 50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"/>
              <p:cNvSpPr/>
              <p:nvPr/>
            </p:nvSpPr>
            <p:spPr>
              <a:xfrm rot="10800000">
                <a:off x="108576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6" name="타원 51"/>
            <p:cNvGrpSpPr/>
            <p:nvPr/>
          </p:nvGrpSpPr>
          <p:grpSpPr>
            <a:xfrm>
              <a:off x="1005840" y="5029200"/>
              <a:ext cx="225360" cy="231480"/>
              <a:chOff x="1005840" y="5029200"/>
              <a:chExt cx="225360" cy="231480"/>
            </a:xfrm>
          </p:grpSpPr>
          <p:pic>
            <p:nvPicPr>
              <p:cNvPr id="827" name="타원 51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029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"/>
              <p:cNvSpPr/>
              <p:nvPr/>
            </p:nvSpPr>
            <p:spPr>
              <a:xfrm rot="10800000">
                <a:off x="1085760" y="5086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2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sp>
        <p:nvSpPr>
          <p:cNvPr id="1583" name="Line 34"/>
          <p:cNvSpPr/>
          <p:nvPr/>
        </p:nvSpPr>
        <p:spPr>
          <a:xfrm>
            <a:off x="2928960" y="4429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4" name="그룹 29"/>
          <p:cNvGrpSpPr/>
          <p:nvPr/>
        </p:nvGrpSpPr>
        <p:grpSpPr>
          <a:xfrm>
            <a:off x="357120" y="3500280"/>
            <a:ext cx="2214720" cy="3000600"/>
            <a:chOff x="357120" y="3500280"/>
            <a:chExt cx="2214720" cy="3000600"/>
          </a:xfrm>
        </p:grpSpPr>
        <p:pic>
          <p:nvPicPr>
            <p:cNvPr id="1585" name="그림 30" descr="그림4.png"/>
            <p:cNvPicPr/>
            <p:nvPr/>
          </p:nvPicPr>
          <p:blipFill>
            <a:blip r:embed="rId2"/>
            <a:stretch/>
          </p:blipFill>
          <p:spPr>
            <a:xfrm>
              <a:off x="1046160" y="3500280"/>
              <a:ext cx="1525680" cy="30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6" name="그림 31" descr="그림1.png"/>
            <p:cNvPicPr/>
            <p:nvPr/>
          </p:nvPicPr>
          <p:blipFill>
            <a:blip r:embed="rId3"/>
            <a:stretch/>
          </p:blipFill>
          <p:spPr>
            <a:xfrm>
              <a:off x="1064520" y="3507480"/>
              <a:ext cx="1217880" cy="10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7" name="그림 32" descr="그림2.png"/>
            <p:cNvPicPr/>
            <p:nvPr/>
          </p:nvPicPr>
          <p:blipFill>
            <a:blip r:embed="rId4"/>
            <a:stretch/>
          </p:blipFill>
          <p:spPr>
            <a:xfrm>
              <a:off x="1685520" y="4128120"/>
              <a:ext cx="864360" cy="174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8" name="그림 33" descr="그림3.png"/>
            <p:cNvPicPr/>
            <p:nvPr/>
          </p:nvPicPr>
          <p:blipFill>
            <a:blip r:embed="rId5"/>
            <a:stretch/>
          </p:blipFill>
          <p:spPr>
            <a:xfrm>
              <a:off x="1055160" y="5446800"/>
              <a:ext cx="1225440" cy="104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9" name="Group 15"/>
            <p:cNvGrpSpPr/>
            <p:nvPr/>
          </p:nvGrpSpPr>
          <p:grpSpPr>
            <a:xfrm>
              <a:off x="357120" y="4370040"/>
              <a:ext cx="1327680" cy="1339920"/>
              <a:chOff x="357120" y="4370040"/>
              <a:chExt cx="1327680" cy="1339920"/>
            </a:xfrm>
          </p:grpSpPr>
          <p:pic>
            <p:nvPicPr>
              <p:cNvPr id="1590" name="Picture 16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57120" y="4370040"/>
                <a:ext cx="1327680" cy="127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91" name="Oval 17"/>
              <p:cNvGrpSpPr/>
              <p:nvPr/>
            </p:nvGrpSpPr>
            <p:grpSpPr>
              <a:xfrm>
                <a:off x="357120" y="4370040"/>
                <a:ext cx="1321920" cy="1284120"/>
                <a:chOff x="357120" y="4370040"/>
                <a:chExt cx="1321920" cy="1284120"/>
              </a:xfrm>
            </p:grpSpPr>
            <p:pic>
              <p:nvPicPr>
                <p:cNvPr id="1592" name="Oval 1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57120" y="4370040"/>
                  <a:ext cx="1321920" cy="128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3" name=""/>
                <p:cNvSpPr/>
                <p:nvPr/>
              </p:nvSpPr>
              <p:spPr>
                <a:xfrm>
                  <a:off x="552240" y="4563000"/>
                  <a:ext cx="926280" cy="89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4" name="Freeform 18"/>
              <p:cNvSpPr/>
              <p:nvPr/>
            </p:nvSpPr>
            <p:spPr>
              <a:xfrm>
                <a:off x="497520" y="4402800"/>
                <a:ext cx="1027800" cy="439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5" name="Group 19"/>
              <p:cNvGrpSpPr/>
              <p:nvPr/>
            </p:nvGrpSpPr>
            <p:grpSpPr>
              <a:xfrm>
                <a:off x="464400" y="5230080"/>
                <a:ext cx="1173600" cy="479880"/>
                <a:chOff x="464400" y="5230080"/>
                <a:chExt cx="1173600" cy="479880"/>
              </a:xfrm>
            </p:grpSpPr>
            <p:grpSp>
              <p:nvGrpSpPr>
                <p:cNvPr id="1596" name="Group 20"/>
                <p:cNvGrpSpPr/>
                <p:nvPr/>
              </p:nvGrpSpPr>
              <p:grpSpPr>
                <a:xfrm>
                  <a:off x="682920" y="5230080"/>
                  <a:ext cx="955080" cy="433080"/>
                  <a:chOff x="682920" y="5230080"/>
                  <a:chExt cx="955080" cy="433080"/>
                </a:xfrm>
              </p:grpSpPr>
              <p:sp>
                <p:nvSpPr>
                  <p:cNvPr id="1597" name="AutoShape 21"/>
                  <p:cNvSpPr/>
                  <p:nvPr/>
                </p:nvSpPr>
                <p:spPr>
                  <a:xfrm flipH="1" flipV="1" rot="3964800">
                    <a:off x="1204200" y="50994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AutoShape 22"/>
                  <p:cNvSpPr/>
                  <p:nvPr/>
                </p:nvSpPr>
                <p:spPr>
                  <a:xfrm flipH="1" flipV="1" rot="4780200">
                    <a:off x="1096200" y="5141520"/>
                    <a:ext cx="16668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AutoShape 23"/>
                  <p:cNvSpPr/>
                  <p:nvPr/>
                </p:nvSpPr>
                <p:spPr>
                  <a:xfrm flipH="1" flipV="1" rot="5076000">
                    <a:off x="1031040" y="51498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AutoShape 24"/>
                  <p:cNvSpPr/>
                  <p:nvPr/>
                </p:nvSpPr>
                <p:spPr>
                  <a:xfrm flipH="1" flipV="1" rot="5608200">
                    <a:off x="950040" y="5159880"/>
                    <a:ext cx="166320" cy="69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1" name="Group 25"/>
                <p:cNvGrpSpPr/>
                <p:nvPr/>
              </p:nvGrpSpPr>
              <p:grpSpPr>
                <a:xfrm>
                  <a:off x="464400" y="5256720"/>
                  <a:ext cx="952560" cy="453240"/>
                  <a:chOff x="464400" y="5256720"/>
                  <a:chExt cx="952560" cy="453240"/>
                </a:xfrm>
              </p:grpSpPr>
              <p:sp>
                <p:nvSpPr>
                  <p:cNvPr id="1602" name="AutoShape 26"/>
                  <p:cNvSpPr/>
                  <p:nvPr/>
                </p:nvSpPr>
                <p:spPr>
                  <a:xfrm flipH="1" flipV="1" rot="5317800">
                    <a:off x="984600" y="517824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AutoShape 27"/>
                  <p:cNvSpPr/>
                  <p:nvPr/>
                </p:nvSpPr>
                <p:spPr>
                  <a:xfrm flipH="1" flipV="1" rot="6133800">
                    <a:off x="868320" y="5177160"/>
                    <a:ext cx="166320" cy="69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AutoShape 28"/>
                  <p:cNvSpPr/>
                  <p:nvPr/>
                </p:nvSpPr>
                <p:spPr>
                  <a:xfrm flipH="1" flipV="1" rot="6429000">
                    <a:off x="803880" y="5158800"/>
                    <a:ext cx="165960" cy="69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AutoShape 29"/>
                  <p:cNvSpPr/>
                  <p:nvPr/>
                </p:nvSpPr>
                <p:spPr>
                  <a:xfrm flipH="1" flipV="1" rot="6961200">
                    <a:off x="729360" y="513612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606" name="직사각형 49" descr=""/>
          <p:cNvPicPr/>
          <p:nvPr/>
        </p:nvPicPr>
        <p:blipFill>
          <a:blip r:embed="rId8"/>
          <a:stretch/>
        </p:blipFill>
        <p:spPr>
          <a:xfrm>
            <a:off x="2700360" y="3475080"/>
            <a:ext cx="5986440" cy="888840"/>
          </a:xfrm>
          <a:prstGeom prst="rect">
            <a:avLst/>
          </a:prstGeom>
          <a:ln w="0">
            <a:noFill/>
          </a:ln>
        </p:spPr>
      </p:pic>
      <p:pic>
        <p:nvPicPr>
          <p:cNvPr id="1607" name="직사각형 50" descr=""/>
          <p:cNvPicPr/>
          <p:nvPr/>
        </p:nvPicPr>
        <p:blipFill>
          <a:blip r:embed="rId9"/>
          <a:stretch/>
        </p:blipFill>
        <p:spPr>
          <a:xfrm>
            <a:off x="2755800" y="4548240"/>
            <a:ext cx="6680160" cy="888840"/>
          </a:xfrm>
          <a:prstGeom prst="rect">
            <a:avLst/>
          </a:prstGeom>
          <a:ln w="0">
            <a:noFill/>
          </a:ln>
        </p:spPr>
      </p:pic>
      <p:pic>
        <p:nvPicPr>
          <p:cNvPr id="1608" name="직사각형 51" descr=""/>
          <p:cNvPicPr/>
          <p:nvPr/>
        </p:nvPicPr>
        <p:blipFill>
          <a:blip r:embed="rId10"/>
          <a:stretch/>
        </p:blipFill>
        <p:spPr>
          <a:xfrm>
            <a:off x="2700360" y="5688000"/>
            <a:ext cx="6035760" cy="888840"/>
          </a:xfrm>
          <a:prstGeom prst="rect">
            <a:avLst/>
          </a:prstGeom>
          <a:ln w="0">
            <a:noFill/>
          </a:ln>
        </p:spPr>
      </p:pic>
      <p:sp>
        <p:nvSpPr>
          <p:cNvPr id="1609" name="Line 34"/>
          <p:cNvSpPr/>
          <p:nvPr/>
        </p:nvSpPr>
        <p:spPr>
          <a:xfrm>
            <a:off x="2928960" y="5572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12" name="직사각형 13"/>
              <p:cNvSpPr/>
              <p:nvPr/>
            </p:nvSpPr>
            <p:spPr>
              <a:xfrm>
                <a:off x="1312200" y="1385640"/>
                <a:ext cx="257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왜곡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tor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직선 연결선 5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17" name="Freeform 5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그룹 173"/>
          <p:cNvGrpSpPr/>
          <p:nvPr/>
        </p:nvGrpSpPr>
        <p:grpSpPr>
          <a:xfrm>
            <a:off x="285840" y="1857240"/>
            <a:ext cx="8572320" cy="1643040"/>
            <a:chOff x="285840" y="1857240"/>
            <a:chExt cx="8572320" cy="1643040"/>
          </a:xfrm>
        </p:grpSpPr>
        <p:grpSp>
          <p:nvGrpSpPr>
            <p:cNvPr id="1621" name="그룹 91"/>
            <p:cNvGrpSpPr/>
            <p:nvPr/>
          </p:nvGrpSpPr>
          <p:grpSpPr>
            <a:xfrm>
              <a:off x="285840" y="1857240"/>
              <a:ext cx="8572320" cy="1643040"/>
              <a:chOff x="285840" y="1857240"/>
              <a:chExt cx="8572320" cy="1643040"/>
            </a:xfrm>
          </p:grpSpPr>
          <p:pic>
            <p:nvPicPr>
              <p:cNvPr id="1622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85840" y="199980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23" name="직사각형 62"/>
              <p:cNvSpPr/>
              <p:nvPr/>
            </p:nvSpPr>
            <p:spPr>
              <a:xfrm>
                <a:off x="1143000" y="185724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기억의 왜곡에서 기인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왜곡되는 것은 경험의 모든 측면들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완전히 기억할 수 없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하기 때문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하고 특징적인 사항을 강조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4" name="타원 59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625" name="타원 59" descr=""/>
              <p:cNvPicPr/>
              <p:nvPr/>
            </p:nvPicPr>
            <p:blipFill>
              <a:blip r:embed="rId13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6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7" name="타원 60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628" name="타원 60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9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30" name="TextBox 63" descr=""/>
          <p:cNvPicPr/>
          <p:nvPr/>
        </p:nvPicPr>
        <p:blipFill>
          <a:blip r:embed="rId15"/>
          <a:stretch/>
        </p:blipFill>
        <p:spPr>
          <a:xfrm>
            <a:off x="579600" y="4827600"/>
            <a:ext cx="8524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1" name="TextBox 12" descr=""/>
          <p:cNvPicPr/>
          <p:nvPr/>
        </p:nvPicPr>
        <p:blipFill>
          <a:blip r:embed="rId1"/>
          <a:stretch/>
        </p:blipFill>
        <p:spPr>
          <a:xfrm>
            <a:off x="7016760" y="506520"/>
            <a:ext cx="2182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34" name="직사각형 13"/>
              <p:cNvSpPr/>
              <p:nvPr/>
            </p:nvSpPr>
            <p:spPr>
              <a:xfrm>
                <a:off x="1338120" y="1385640"/>
                <a:ext cx="27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전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learning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rategies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직선 연결선 2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그룹 63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1643" name="그룹 34"/>
            <p:cNvGrpSpPr/>
            <p:nvPr/>
          </p:nvGrpSpPr>
          <p:grpSpPr>
            <a:xfrm>
              <a:off x="285840" y="2203560"/>
              <a:ext cx="8501040" cy="1368360"/>
              <a:chOff x="285840" y="2203560"/>
              <a:chExt cx="8501040" cy="1368360"/>
            </a:xfrm>
          </p:grpSpPr>
          <p:grpSp>
            <p:nvGrpSpPr>
              <p:cNvPr id="1644" name="그룹 91"/>
              <p:cNvGrpSpPr/>
              <p:nvPr/>
            </p:nvGrpSpPr>
            <p:grpSpPr>
              <a:xfrm>
                <a:off x="285840" y="2203560"/>
                <a:ext cx="8501040" cy="1368360"/>
                <a:chOff x="285840" y="2203560"/>
                <a:chExt cx="8501040" cy="1368360"/>
              </a:xfrm>
            </p:grpSpPr>
            <p:pic>
              <p:nvPicPr>
                <p:cNvPr id="164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56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646" name="직사각형 33"/>
                <p:cNvSpPr/>
                <p:nvPr/>
              </p:nvSpPr>
              <p:spPr>
                <a:xfrm>
                  <a:off x="1214280" y="254628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목표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달성하기 위한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전략과 메타인지전략을 포함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7" name="오른쪽 화살표 31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1648" name="오른쪽 화살표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9" name=""/>
                <p:cNvSpPr/>
                <p:nvPr/>
              </p:nvSpPr>
              <p:spPr>
                <a:xfrm>
                  <a:off x="928440" y="275220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0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651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652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1653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4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5" name="직사각형 27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6" name="직선 연결선 25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7" name="타원 34"/>
          <p:cNvGrpSpPr/>
          <p:nvPr/>
        </p:nvGrpSpPr>
        <p:grpSpPr>
          <a:xfrm>
            <a:off x="933480" y="3103560"/>
            <a:ext cx="225360" cy="230040"/>
            <a:chOff x="933480" y="3103560"/>
            <a:chExt cx="225360" cy="230040"/>
          </a:xfrm>
        </p:grpSpPr>
        <p:pic>
          <p:nvPicPr>
            <p:cNvPr id="1658" name="타원 34" descr=""/>
            <p:cNvPicPr/>
            <p:nvPr/>
          </p:nvPicPr>
          <p:blipFill>
            <a:blip r:embed="rId6"/>
            <a:stretch/>
          </p:blipFill>
          <p:spPr>
            <a:xfrm>
              <a:off x="933480" y="3103560"/>
              <a:ext cx="225360" cy="2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9" name=""/>
            <p:cNvSpPr/>
            <p:nvPr/>
          </p:nvSpPr>
          <p:spPr>
            <a:xfrm rot="10800000">
              <a:off x="1014480" y="3157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그룹 63"/>
          <p:cNvGrpSpPr/>
          <p:nvPr/>
        </p:nvGrpSpPr>
        <p:grpSpPr>
          <a:xfrm>
            <a:off x="285840" y="3714840"/>
            <a:ext cx="8501040" cy="2000160"/>
            <a:chOff x="285840" y="3714840"/>
            <a:chExt cx="8501040" cy="2000160"/>
          </a:xfrm>
        </p:grpSpPr>
        <p:grpSp>
          <p:nvGrpSpPr>
            <p:cNvPr id="1661" name="그룹 91"/>
            <p:cNvGrpSpPr/>
            <p:nvPr/>
          </p:nvGrpSpPr>
          <p:grpSpPr>
            <a:xfrm>
              <a:off x="285840" y="3918240"/>
              <a:ext cx="8501040" cy="1796760"/>
              <a:chOff x="285840" y="3918240"/>
              <a:chExt cx="8501040" cy="1796760"/>
            </a:xfrm>
          </p:grpSpPr>
          <p:pic>
            <p:nvPicPr>
              <p:cNvPr id="1662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3918240"/>
                <a:ext cx="8501040" cy="1796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63" name="직사각형 47"/>
              <p:cNvSpPr/>
              <p:nvPr/>
            </p:nvSpPr>
            <p:spPr>
              <a:xfrm>
                <a:off x="1357200" y="4260960"/>
                <a:ext cx="628668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노트필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요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한 정보의 확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4" name="그룹 44"/>
            <p:cNvGrpSpPr/>
            <p:nvPr/>
          </p:nvGrpSpPr>
          <p:grpSpPr>
            <a:xfrm>
              <a:off x="928440" y="3714840"/>
              <a:ext cx="7574040" cy="551160"/>
              <a:chOff x="928440" y="3714840"/>
              <a:chExt cx="7574040" cy="551160"/>
            </a:xfrm>
          </p:grpSpPr>
          <p:grpSp>
            <p:nvGrpSpPr>
              <p:cNvPr id="1665" name="그룹 91"/>
              <p:cNvGrpSpPr/>
              <p:nvPr/>
            </p:nvGrpSpPr>
            <p:grpSpPr>
              <a:xfrm>
                <a:off x="928440" y="3714840"/>
                <a:ext cx="1951920" cy="551160"/>
                <a:chOff x="928440" y="3714840"/>
                <a:chExt cx="1951920" cy="551160"/>
              </a:xfrm>
            </p:grpSpPr>
            <p:grpSp>
              <p:nvGrpSpPr>
                <p:cNvPr id="1666" name="그룹 34"/>
                <p:cNvGrpSpPr/>
                <p:nvPr/>
              </p:nvGrpSpPr>
              <p:grpSpPr>
                <a:xfrm>
                  <a:off x="928440" y="3818520"/>
                  <a:ext cx="349200" cy="343440"/>
                  <a:chOff x="928440" y="3818520"/>
                  <a:chExt cx="349200" cy="343440"/>
                </a:xfrm>
              </p:grpSpPr>
              <p:pic>
                <p:nvPicPr>
                  <p:cNvPr id="1667" name="Picture 177" descr="bull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28440" y="3821760"/>
                    <a:ext cx="349200" cy="3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TextBox 36"/>
                  <p:cNvSpPr/>
                  <p:nvPr/>
                </p:nvSpPr>
                <p:spPr>
                  <a:xfrm>
                    <a:off x="957960" y="3818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9" name="직사각형 41"/>
                <p:cNvSpPr/>
                <p:nvPr/>
              </p:nvSpPr>
              <p:spPr>
                <a:xfrm>
                  <a:off x="1567440" y="3714840"/>
                  <a:ext cx="13129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학습전략의 종류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0" name="직선 연결선 39"/>
              <p:cNvSpPr/>
              <p:nvPr/>
            </p:nvSpPr>
            <p:spPr>
              <a:xfrm>
                <a:off x="3214440" y="39862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1" name="그룹 97"/>
          <p:cNvGrpSpPr/>
          <p:nvPr/>
        </p:nvGrpSpPr>
        <p:grpSpPr>
          <a:xfrm>
            <a:off x="1066680" y="4319640"/>
            <a:ext cx="295200" cy="337320"/>
            <a:chOff x="1066680" y="4319640"/>
            <a:chExt cx="295200" cy="337320"/>
          </a:xfrm>
        </p:grpSpPr>
        <p:pic>
          <p:nvPicPr>
            <p:cNvPr id="1672" name="Picture 177" descr="bull"/>
            <p:cNvPicPr/>
            <p:nvPr/>
          </p:nvPicPr>
          <p:blipFill>
            <a:blip r:embed="rId9"/>
            <a:stretch/>
          </p:blipFill>
          <p:spPr>
            <a:xfrm>
              <a:off x="1073160" y="4376160"/>
              <a:ext cx="284040" cy="2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3" name="TextBox 146"/>
            <p:cNvSpPr/>
            <p:nvPr/>
          </p:nvSpPr>
          <p:spPr>
            <a:xfrm>
              <a:off x="1066680" y="43196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4" name="그룹 97"/>
          <p:cNvGrpSpPr/>
          <p:nvPr/>
        </p:nvGrpSpPr>
        <p:grpSpPr>
          <a:xfrm>
            <a:off x="1069560" y="4757760"/>
            <a:ext cx="305640" cy="338040"/>
            <a:chOff x="1069560" y="4757760"/>
            <a:chExt cx="305640" cy="338040"/>
          </a:xfrm>
        </p:grpSpPr>
        <p:pic>
          <p:nvPicPr>
            <p:cNvPr id="1675" name="Picture 177" descr="bull"/>
            <p:cNvPicPr/>
            <p:nvPr/>
          </p:nvPicPr>
          <p:blipFill>
            <a:blip r:embed="rId10"/>
            <a:stretch/>
          </p:blipFill>
          <p:spPr>
            <a:xfrm>
              <a:off x="1073160" y="4815720"/>
              <a:ext cx="28656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6" name="TextBox 146"/>
            <p:cNvSpPr/>
            <p:nvPr/>
          </p:nvSpPr>
          <p:spPr>
            <a:xfrm>
              <a:off x="1069560" y="475776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7" name="그룹 97"/>
          <p:cNvGrpSpPr/>
          <p:nvPr/>
        </p:nvGrpSpPr>
        <p:grpSpPr>
          <a:xfrm>
            <a:off x="1073160" y="5172120"/>
            <a:ext cx="285840" cy="338040"/>
            <a:chOff x="1073160" y="5172120"/>
            <a:chExt cx="285840" cy="338040"/>
          </a:xfrm>
        </p:grpSpPr>
        <p:pic>
          <p:nvPicPr>
            <p:cNvPr id="1678" name="Picture 177" descr="bull"/>
            <p:cNvPicPr/>
            <p:nvPr/>
          </p:nvPicPr>
          <p:blipFill>
            <a:blip r:embed="rId11"/>
            <a:stretch/>
          </p:blipFill>
          <p:spPr>
            <a:xfrm>
              <a:off x="1073160" y="5230080"/>
              <a:ext cx="28584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9" name="TextBox 146"/>
            <p:cNvSpPr/>
            <p:nvPr/>
          </p:nvSpPr>
          <p:spPr>
            <a:xfrm>
              <a:off x="1076400" y="517212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0" name="직사각형 45"/>
          <p:cNvSpPr/>
          <p:nvPr/>
        </p:nvSpPr>
        <p:spPr>
          <a:xfrm>
            <a:off x="928800" y="602928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     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유의미한 언어학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오스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(Ausubel)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의 연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2" name="직사각형 50"/>
              <p:cNvSpPr/>
              <p:nvPr/>
            </p:nvSpPr>
            <p:spPr>
              <a:xfrm>
                <a:off x="1494000" y="1386000"/>
                <a:ext cx="4173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forma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rocess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4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835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6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83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8" name=""/>
                <p:cNvSpPr/>
                <p:nvPr/>
              </p:nvSpPr>
              <p:spPr>
                <a:xfrm>
                  <a:off x="691920" y="141552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9" name="TextBox 88"/>
            <p:cNvSpPr/>
            <p:nvPr/>
          </p:nvSpPr>
          <p:spPr>
            <a:xfrm>
              <a:off x="657720" y="139104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그룹 63"/>
          <p:cNvGrpSpPr/>
          <p:nvPr/>
        </p:nvGrpSpPr>
        <p:grpSpPr>
          <a:xfrm>
            <a:off x="285840" y="1857240"/>
            <a:ext cx="8501040" cy="1571760"/>
            <a:chOff x="285840" y="1857240"/>
            <a:chExt cx="8501040" cy="1571760"/>
          </a:xfrm>
        </p:grpSpPr>
        <p:grpSp>
          <p:nvGrpSpPr>
            <p:cNvPr id="841" name="그룹 34"/>
            <p:cNvGrpSpPr/>
            <p:nvPr/>
          </p:nvGrpSpPr>
          <p:grpSpPr>
            <a:xfrm>
              <a:off x="285840" y="2060640"/>
              <a:ext cx="8501040" cy="1368360"/>
              <a:chOff x="285840" y="2060640"/>
              <a:chExt cx="8501040" cy="136836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85840" y="2060640"/>
                <a:ext cx="8501040" cy="1368360"/>
                <a:chOff x="285840" y="2060640"/>
                <a:chExt cx="8501040" cy="136836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6064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75"/>
                <p:cNvSpPr/>
                <p:nvPr/>
              </p:nvSpPr>
              <p:spPr>
                <a:xfrm>
                  <a:off x="1214280" y="240336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이론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간이 외부 정보에 주의를 기울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그 정보를 저장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필요할 때 인출하는 과정을 분석하는 접근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오른쪽 화살표 73"/>
              <p:cNvGrpSpPr/>
              <p:nvPr/>
            </p:nvGrpSpPr>
            <p:grpSpPr>
              <a:xfrm>
                <a:off x="883800" y="2523600"/>
                <a:ext cx="359640" cy="304920"/>
                <a:chOff x="883800" y="2523600"/>
                <a:chExt cx="359640" cy="304920"/>
              </a:xfrm>
            </p:grpSpPr>
            <p:pic>
              <p:nvPicPr>
                <p:cNvPr id="846" name="오른쪽 화살표 7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52360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7" name=""/>
                <p:cNvSpPr/>
                <p:nvPr/>
              </p:nvSpPr>
              <p:spPr>
                <a:xfrm>
                  <a:off x="928440" y="260964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8" name="그룹 44"/>
            <p:cNvGrpSpPr/>
            <p:nvPr/>
          </p:nvGrpSpPr>
          <p:grpSpPr>
            <a:xfrm>
              <a:off x="928440" y="1857240"/>
              <a:ext cx="7574040" cy="551160"/>
              <a:chOff x="928440" y="1857240"/>
              <a:chExt cx="7574040" cy="551160"/>
            </a:xfrm>
          </p:grpSpPr>
          <p:grpSp>
            <p:nvGrpSpPr>
              <p:cNvPr id="849" name="그룹 91"/>
              <p:cNvGrpSpPr/>
              <p:nvPr/>
            </p:nvGrpSpPr>
            <p:grpSpPr>
              <a:xfrm>
                <a:off x="928440" y="1857240"/>
                <a:ext cx="845640" cy="551160"/>
                <a:chOff x="928440" y="1857240"/>
                <a:chExt cx="845640" cy="551160"/>
              </a:xfrm>
            </p:grpSpPr>
            <p:grpSp>
              <p:nvGrpSpPr>
                <p:cNvPr id="850" name="그룹 34"/>
                <p:cNvGrpSpPr/>
                <p:nvPr/>
              </p:nvGrpSpPr>
              <p:grpSpPr>
                <a:xfrm>
                  <a:off x="928440" y="1961280"/>
                  <a:ext cx="348840" cy="343800"/>
                  <a:chOff x="928440" y="1961280"/>
                  <a:chExt cx="348840" cy="343800"/>
                </a:xfrm>
              </p:grpSpPr>
              <p:pic>
                <p:nvPicPr>
                  <p:cNvPr id="851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1968480"/>
                    <a:ext cx="34884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2" name="TextBox 36"/>
                  <p:cNvSpPr/>
                  <p:nvPr/>
                </p:nvSpPr>
                <p:spPr>
                  <a:xfrm>
                    <a:off x="957600" y="1961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3" name="직사각형 69"/>
                <p:cNvSpPr/>
                <p:nvPr/>
              </p:nvSpPr>
              <p:spPr>
                <a:xfrm>
                  <a:off x="1288440" y="185724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4" name="직선 연결선 67"/>
              <p:cNvSpPr/>
              <p:nvPr/>
            </p:nvSpPr>
            <p:spPr>
              <a:xfrm>
                <a:off x="3214440" y="21286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100"/>
          <p:cNvGrpSpPr/>
          <p:nvPr/>
        </p:nvGrpSpPr>
        <p:grpSpPr>
          <a:xfrm>
            <a:off x="285840" y="3571920"/>
            <a:ext cx="8501040" cy="2928960"/>
            <a:chOff x="285840" y="3571920"/>
            <a:chExt cx="8501040" cy="2928960"/>
          </a:xfrm>
        </p:grpSpPr>
        <p:pic>
          <p:nvPicPr>
            <p:cNvPr id="856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774960"/>
              <a:ext cx="8501040" cy="2725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7" name="그룹 91"/>
            <p:cNvGrpSpPr/>
            <p:nvPr/>
          </p:nvGrpSpPr>
          <p:grpSpPr>
            <a:xfrm>
              <a:off x="916920" y="3571920"/>
              <a:ext cx="1675080" cy="551160"/>
              <a:chOff x="916920" y="3571920"/>
              <a:chExt cx="1675080" cy="551160"/>
            </a:xfrm>
          </p:grpSpPr>
          <p:grpSp>
            <p:nvGrpSpPr>
              <p:cNvPr id="858" name="그룹 34"/>
              <p:cNvGrpSpPr/>
              <p:nvPr/>
            </p:nvGrpSpPr>
            <p:grpSpPr>
              <a:xfrm>
                <a:off x="916920" y="3663000"/>
                <a:ext cx="369360" cy="356400"/>
                <a:chOff x="916920" y="3663000"/>
                <a:chExt cx="369360" cy="356400"/>
              </a:xfrm>
            </p:grpSpPr>
            <p:pic>
              <p:nvPicPr>
                <p:cNvPr id="85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20160" y="3681360"/>
                  <a:ext cx="366120" cy="338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0" name="TextBox 36"/>
                <p:cNvSpPr/>
                <p:nvPr/>
              </p:nvSpPr>
              <p:spPr>
                <a:xfrm>
                  <a:off x="916920" y="366300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1" name="직사각형 58"/>
              <p:cNvSpPr/>
              <p:nvPr/>
            </p:nvSpPr>
            <p:spPr>
              <a:xfrm>
                <a:off x="1496880" y="3571920"/>
                <a:ext cx="10951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2" name="그룹 61"/>
          <p:cNvGrpSpPr/>
          <p:nvPr/>
        </p:nvGrpSpPr>
        <p:grpSpPr>
          <a:xfrm>
            <a:off x="1285920" y="3733920"/>
            <a:ext cx="6786360" cy="2624040"/>
            <a:chOff x="1285920" y="3733920"/>
            <a:chExt cx="6786360" cy="2624040"/>
          </a:xfrm>
        </p:grpSpPr>
        <p:grpSp>
          <p:nvGrpSpPr>
            <p:cNvPr id="863" name="타원 62"/>
            <p:cNvGrpSpPr/>
            <p:nvPr/>
          </p:nvGrpSpPr>
          <p:grpSpPr>
            <a:xfrm>
              <a:off x="1285920" y="4637880"/>
              <a:ext cx="691560" cy="683280"/>
              <a:chOff x="1285920" y="4637880"/>
              <a:chExt cx="691560" cy="683280"/>
            </a:xfrm>
          </p:grpSpPr>
          <p:pic>
            <p:nvPicPr>
              <p:cNvPr id="864" name="타원 6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85920" y="46378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5" name=""/>
              <p:cNvSpPr/>
              <p:nvPr/>
            </p:nvSpPr>
            <p:spPr>
              <a:xfrm>
                <a:off x="1432800" y="476244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6" name="직사각형 63"/>
            <p:cNvGrpSpPr/>
            <p:nvPr/>
          </p:nvGrpSpPr>
          <p:grpSpPr>
            <a:xfrm>
              <a:off x="2734920" y="4573080"/>
              <a:ext cx="1139040" cy="748080"/>
              <a:chOff x="2734920" y="4573080"/>
              <a:chExt cx="1139040" cy="748080"/>
            </a:xfrm>
          </p:grpSpPr>
          <p:pic>
            <p:nvPicPr>
              <p:cNvPr id="867" name="직사각형 63" descr=""/>
              <p:cNvPicPr/>
              <p:nvPr/>
            </p:nvPicPr>
            <p:blipFill>
              <a:blip r:embed="rId9"/>
              <a:stretch/>
            </p:blipFill>
            <p:spPr>
              <a:xfrm>
                <a:off x="2734920" y="4573080"/>
                <a:ext cx="113904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8" name=""/>
              <p:cNvSpPr/>
              <p:nvPr/>
            </p:nvSpPr>
            <p:spPr>
              <a:xfrm>
                <a:off x="281844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직사각형 64"/>
            <p:cNvGrpSpPr/>
            <p:nvPr/>
          </p:nvGrpSpPr>
          <p:grpSpPr>
            <a:xfrm>
              <a:off x="4822200" y="4567320"/>
              <a:ext cx="1156680" cy="748080"/>
              <a:chOff x="4822200" y="4567320"/>
              <a:chExt cx="1156680" cy="748080"/>
            </a:xfrm>
          </p:grpSpPr>
          <p:pic>
            <p:nvPicPr>
              <p:cNvPr id="870" name="직사각형 64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22200" y="4567320"/>
                <a:ext cx="115668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1" name=""/>
              <p:cNvSpPr/>
              <p:nvPr/>
            </p:nvSpPr>
            <p:spPr>
              <a:xfrm>
                <a:off x="491508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직사각형 65"/>
            <p:cNvGrpSpPr/>
            <p:nvPr/>
          </p:nvGrpSpPr>
          <p:grpSpPr>
            <a:xfrm>
              <a:off x="6927480" y="4573080"/>
              <a:ext cx="1144800" cy="748080"/>
              <a:chOff x="6927480" y="4573080"/>
              <a:chExt cx="1144800" cy="748080"/>
            </a:xfrm>
          </p:grpSpPr>
          <p:pic>
            <p:nvPicPr>
              <p:cNvPr id="873" name="직사각형 65" descr=""/>
              <p:cNvPicPr/>
              <p:nvPr/>
            </p:nvPicPr>
            <p:blipFill>
              <a:blip r:embed="rId11"/>
              <a:stretch/>
            </p:blipFill>
            <p:spPr>
              <a:xfrm>
                <a:off x="6927480" y="4573080"/>
                <a:ext cx="114480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"/>
              <p:cNvSpPr/>
              <p:nvPr/>
            </p:nvSpPr>
            <p:spPr>
              <a:xfrm>
                <a:off x="701172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타원 66"/>
            <p:cNvGrpSpPr/>
            <p:nvPr/>
          </p:nvGrpSpPr>
          <p:grpSpPr>
            <a:xfrm>
              <a:off x="5060880" y="5674680"/>
              <a:ext cx="691560" cy="683280"/>
              <a:chOff x="5060880" y="5674680"/>
              <a:chExt cx="691560" cy="683280"/>
            </a:xfrm>
          </p:grpSpPr>
          <p:pic>
            <p:nvPicPr>
              <p:cNvPr id="876" name="타원 66" descr=""/>
              <p:cNvPicPr/>
              <p:nvPr/>
            </p:nvPicPr>
            <p:blipFill>
              <a:blip r:embed="rId12"/>
              <a:stretch/>
            </p:blipFill>
            <p:spPr>
              <a:xfrm>
                <a:off x="5060880" y="56746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7" name=""/>
              <p:cNvSpPr/>
              <p:nvPr/>
            </p:nvSpPr>
            <p:spPr>
              <a:xfrm>
                <a:off x="5206680" y="579780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모서리가 둥근 직사각형 68"/>
            <p:cNvGrpSpPr/>
            <p:nvPr/>
          </p:nvGrpSpPr>
          <p:grpSpPr>
            <a:xfrm>
              <a:off x="7148160" y="5468760"/>
              <a:ext cx="757080" cy="477000"/>
              <a:chOff x="7148160" y="5468760"/>
              <a:chExt cx="757080" cy="477000"/>
            </a:xfrm>
          </p:grpSpPr>
          <p:pic>
            <p:nvPicPr>
              <p:cNvPr id="879" name="모서리가 둥근 직사각형 68" descr=""/>
              <p:cNvPicPr/>
              <p:nvPr/>
            </p:nvPicPr>
            <p:blipFill>
              <a:blip r:embed="rId13"/>
              <a:stretch/>
            </p:blipFill>
            <p:spPr>
              <a:xfrm>
                <a:off x="714816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0" name=""/>
              <p:cNvSpPr/>
              <p:nvPr/>
            </p:nvSpPr>
            <p:spPr>
              <a:xfrm>
                <a:off x="722916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모서리가 둥근 직사각형 71"/>
            <p:cNvGrpSpPr/>
            <p:nvPr/>
          </p:nvGrpSpPr>
          <p:grpSpPr>
            <a:xfrm>
              <a:off x="4047120" y="5468760"/>
              <a:ext cx="757080" cy="477000"/>
              <a:chOff x="4047120" y="5468760"/>
              <a:chExt cx="757080" cy="477000"/>
            </a:xfrm>
          </p:grpSpPr>
          <p:pic>
            <p:nvPicPr>
              <p:cNvPr id="882" name="모서리가 둥근 직사각형 71" descr=""/>
              <p:cNvPicPr/>
              <p:nvPr/>
            </p:nvPicPr>
            <p:blipFill>
              <a:blip r:embed="rId14"/>
              <a:stretch/>
            </p:blipFill>
            <p:spPr>
              <a:xfrm>
                <a:off x="404712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3" name=""/>
              <p:cNvSpPr/>
              <p:nvPr/>
            </p:nvSpPr>
            <p:spPr>
              <a:xfrm>
                <a:off x="41292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모서리가 둥근 직사각형 72"/>
            <p:cNvGrpSpPr/>
            <p:nvPr/>
          </p:nvGrpSpPr>
          <p:grpSpPr>
            <a:xfrm>
              <a:off x="2937600" y="5468760"/>
              <a:ext cx="757080" cy="477000"/>
              <a:chOff x="2937600" y="5468760"/>
              <a:chExt cx="757080" cy="477000"/>
            </a:xfrm>
          </p:grpSpPr>
          <p:pic>
            <p:nvPicPr>
              <p:cNvPr id="885" name="모서리가 둥근 직사각형 72" descr=""/>
              <p:cNvPicPr/>
              <p:nvPr/>
            </p:nvPicPr>
            <p:blipFill>
              <a:blip r:embed="rId15"/>
              <a:stretch/>
            </p:blipFill>
            <p:spPr>
              <a:xfrm>
                <a:off x="293760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6" name=""/>
              <p:cNvSpPr/>
              <p:nvPr/>
            </p:nvSpPr>
            <p:spPr>
              <a:xfrm>
                <a:off x="30186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87" name="직선 화살표 연결선 118"/>
            <p:cNvCxnSpPr/>
            <p:nvPr/>
          </p:nvCxnSpPr>
          <p:spPr>
            <a:xfrm>
              <a:off x="197964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8" name="직선 화살표 연결선 120"/>
            <p:cNvCxnSpPr/>
            <p:nvPr/>
          </p:nvCxnSpPr>
          <p:spPr>
            <a:xfrm>
              <a:off x="393660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9" name="직선 화살표 연결선 121"/>
            <p:cNvCxnSpPr/>
            <p:nvPr/>
          </p:nvCxnSpPr>
          <p:spPr>
            <a:xfrm>
              <a:off x="6103080" y="465120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0" name="직선 화살표 연결선 122"/>
            <p:cNvCxnSpPr/>
            <p:nvPr/>
          </p:nvCxnSpPr>
          <p:spPr>
            <a:xfrm>
              <a:off x="6103080" y="49273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1" name="직선 화살표 연결선 123"/>
            <p:cNvCxnSpPr/>
            <p:nvPr/>
          </p:nvCxnSpPr>
          <p:spPr>
            <a:xfrm flipH="1">
              <a:off x="6102720" y="520344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2" name="TextBox 124"/>
            <p:cNvSpPr/>
            <p:nvPr/>
          </p:nvSpPr>
          <p:spPr>
            <a:xfrm>
              <a:off x="4098600" y="495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Box 125"/>
            <p:cNvSpPr/>
            <p:nvPr/>
          </p:nvSpPr>
          <p:spPr>
            <a:xfrm>
              <a:off x="6167160" y="4651200"/>
              <a:ext cx="546480" cy="8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호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4" name="직선 화살표 연결선 126"/>
            <p:cNvCxnSpPr/>
            <p:nvPr/>
          </p:nvCxnSpPr>
          <p:spPr>
            <a:xfrm flipH="1">
              <a:off x="330732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5" name="직선 화살표 연결선 129"/>
            <p:cNvCxnSpPr/>
            <p:nvPr/>
          </p:nvCxnSpPr>
          <p:spPr>
            <a:xfrm flipH="1">
              <a:off x="750060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6" name="직선 화살표 연결선 130"/>
            <p:cNvCxnSpPr/>
            <p:nvPr/>
          </p:nvCxnSpPr>
          <p:spPr>
            <a:xfrm flipH="1">
              <a:off x="5403960" y="5301360"/>
              <a:ext cx="2160" cy="34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7" name="꺾인 연결선 133"/>
            <p:cNvCxnSpPr/>
            <p:nvPr/>
          </p:nvCxnSpPr>
          <p:spPr>
            <a:xfrm flipH="1">
              <a:off x="4775040" y="5303160"/>
              <a:ext cx="489600" cy="345240"/>
            </a:xfrm>
            <a:prstGeom prst="bentConnector3">
              <a:avLst>
                <a:gd name="adj1" fmla="val -1471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898" name="꺾인 연결선 139"/>
            <p:cNvCxnSpPr/>
            <p:nvPr/>
          </p:nvCxnSpPr>
          <p:spPr>
            <a:xfrm flipV="1" rot="16200000">
              <a:off x="5403960" y="2472480"/>
              <a:ext cx="2160" cy="4195440"/>
            </a:xfrm>
            <a:prstGeom prst="bentConnector3">
              <a:avLst>
                <a:gd name="adj1" fmla="val 35080000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99" name="TextBox 142"/>
            <p:cNvSpPr/>
            <p:nvPr/>
          </p:nvSpPr>
          <p:spPr>
            <a:xfrm>
              <a:off x="5140080" y="37339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메타인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0" name="직선 화살표 연결선 143"/>
            <p:cNvCxnSpPr/>
            <p:nvPr/>
          </p:nvCxnSpPr>
          <p:spPr>
            <a:xfrm flipH="1">
              <a:off x="6452280" y="4035960"/>
              <a:ext cx="2160" cy="55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pic>
          <p:nvPicPr>
            <p:cNvPr id="901" name="그림 166" descr="그림1.png"/>
            <p:cNvPicPr/>
            <p:nvPr/>
          </p:nvPicPr>
          <p:blipFill>
            <a:blip r:embed="rId16"/>
            <a:stretch/>
          </p:blipFill>
          <p:spPr>
            <a:xfrm rot="18900000">
              <a:off x="5085720" y="4375080"/>
              <a:ext cx="464040" cy="36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TextBox 167"/>
            <p:cNvSpPr/>
            <p:nvPr/>
          </p:nvSpPr>
          <p:spPr>
            <a:xfrm>
              <a:off x="5167080" y="414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6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그룹 63"/>
          <p:cNvGrpSpPr/>
          <p:nvPr/>
        </p:nvGrpSpPr>
        <p:grpSpPr>
          <a:xfrm>
            <a:off x="285840" y="2046240"/>
            <a:ext cx="8572320" cy="3454560"/>
            <a:chOff x="285840" y="2046240"/>
            <a:chExt cx="8572320" cy="3454560"/>
          </a:xfrm>
        </p:grpSpPr>
        <p:grpSp>
          <p:nvGrpSpPr>
            <p:cNvPr id="915" name="그룹 91"/>
            <p:cNvGrpSpPr/>
            <p:nvPr/>
          </p:nvGrpSpPr>
          <p:grpSpPr>
            <a:xfrm>
              <a:off x="285840" y="2249280"/>
              <a:ext cx="8572320" cy="3251520"/>
              <a:chOff x="285840" y="2249280"/>
              <a:chExt cx="8572320" cy="3251520"/>
            </a:xfrm>
          </p:grpSpPr>
          <p:pic>
            <p:nvPicPr>
              <p:cNvPr id="91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49280"/>
                <a:ext cx="8501040" cy="3251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7" name="직사각형 154"/>
              <p:cNvSpPr/>
              <p:nvPr/>
            </p:nvSpPr>
            <p:spPr>
              <a:xfrm>
                <a:off x="1143000" y="2514240"/>
                <a:ext cx="771516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극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짧은 순간 동안 정보를 원래 형태대로 정확하게 복사하여 보존하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형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지속기간이 매우 짧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청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에 파지된 정보에 주의를 기울이면 단기기억으로 전이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8" name="그룹 44"/>
            <p:cNvGrpSpPr/>
            <p:nvPr/>
          </p:nvGrpSpPr>
          <p:grpSpPr>
            <a:xfrm>
              <a:off x="928440" y="2046240"/>
              <a:ext cx="7574040" cy="551160"/>
              <a:chOff x="928440" y="2046240"/>
              <a:chExt cx="7574040" cy="551160"/>
            </a:xfrm>
          </p:grpSpPr>
          <p:grpSp>
            <p:nvGrpSpPr>
              <p:cNvPr id="919" name="그룹 91"/>
              <p:cNvGrpSpPr/>
              <p:nvPr/>
            </p:nvGrpSpPr>
            <p:grpSpPr>
              <a:xfrm>
                <a:off x="928440" y="2046240"/>
                <a:ext cx="3023280" cy="551160"/>
                <a:chOff x="928440" y="2046240"/>
                <a:chExt cx="3023280" cy="551160"/>
              </a:xfrm>
            </p:grpSpPr>
            <p:grpSp>
              <p:nvGrpSpPr>
                <p:cNvPr id="920" name="그룹 34"/>
                <p:cNvGrpSpPr/>
                <p:nvPr/>
              </p:nvGrpSpPr>
              <p:grpSpPr>
                <a:xfrm>
                  <a:off x="928440" y="2150280"/>
                  <a:ext cx="349200" cy="343440"/>
                  <a:chOff x="928440" y="2150280"/>
                  <a:chExt cx="349200" cy="343440"/>
                </a:xfrm>
              </p:grpSpPr>
              <p:pic>
                <p:nvPicPr>
                  <p:cNvPr id="92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57480"/>
                    <a:ext cx="349200" cy="33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2" name="TextBox 36"/>
                  <p:cNvSpPr/>
                  <p:nvPr/>
                </p:nvSpPr>
                <p:spPr>
                  <a:xfrm>
                    <a:off x="957960" y="2150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3" name="직사각형 148"/>
                <p:cNvSpPr/>
                <p:nvPr/>
              </p:nvSpPr>
              <p:spPr>
                <a:xfrm>
                  <a:off x="1438200" y="2046240"/>
                  <a:ext cx="25135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감각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sensory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regist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4" name="직선 연결선 146"/>
              <p:cNvSpPr/>
              <p:nvPr/>
            </p:nvSpPr>
            <p:spPr>
              <a:xfrm flipV="1">
                <a:off x="4643280" y="2318760"/>
                <a:ext cx="385920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5" name="타원 156"/>
          <p:cNvGrpSpPr/>
          <p:nvPr/>
        </p:nvGrpSpPr>
        <p:grpSpPr>
          <a:xfrm>
            <a:off x="933480" y="2670120"/>
            <a:ext cx="225360" cy="231840"/>
            <a:chOff x="933480" y="2670120"/>
            <a:chExt cx="225360" cy="231840"/>
          </a:xfrm>
        </p:grpSpPr>
        <p:pic>
          <p:nvPicPr>
            <p:cNvPr id="926" name="타원 156" descr=""/>
            <p:cNvPicPr/>
            <p:nvPr/>
          </p:nvPicPr>
          <p:blipFill>
            <a:blip r:embed="rId5"/>
            <a:stretch/>
          </p:blipFill>
          <p:spPr>
            <a:xfrm>
              <a:off x="933480" y="267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"/>
            <p:cNvSpPr/>
            <p:nvPr/>
          </p:nvSpPr>
          <p:spPr>
            <a:xfrm rot="10800000">
              <a:off x="1014480" y="2728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타원 157"/>
          <p:cNvGrpSpPr/>
          <p:nvPr/>
        </p:nvGrpSpPr>
        <p:grpSpPr>
          <a:xfrm>
            <a:off x="933480" y="3786120"/>
            <a:ext cx="225360" cy="236520"/>
            <a:chOff x="933480" y="3786120"/>
            <a:chExt cx="225360" cy="236520"/>
          </a:xfrm>
        </p:grpSpPr>
        <p:pic>
          <p:nvPicPr>
            <p:cNvPr id="929" name="타원 157" descr=""/>
            <p:cNvPicPr/>
            <p:nvPr/>
          </p:nvPicPr>
          <p:blipFill>
            <a:blip r:embed="rId6"/>
            <a:stretch/>
          </p:blipFill>
          <p:spPr>
            <a:xfrm>
              <a:off x="933480" y="3786120"/>
              <a:ext cx="22536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"/>
            <p:cNvSpPr/>
            <p:nvPr/>
          </p:nvSpPr>
          <p:spPr>
            <a:xfrm rot="10800000">
              <a:off x="1014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34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그룹 82"/>
          <p:cNvGrpSpPr/>
          <p:nvPr/>
        </p:nvGrpSpPr>
        <p:grpSpPr>
          <a:xfrm>
            <a:off x="285840" y="2071800"/>
            <a:ext cx="8858160" cy="4286160"/>
            <a:chOff x="285840" y="2071800"/>
            <a:chExt cx="8858160" cy="4286160"/>
          </a:xfrm>
        </p:grpSpPr>
        <p:grpSp>
          <p:nvGrpSpPr>
            <p:cNvPr id="943" name="그룹 173"/>
            <p:cNvGrpSpPr/>
            <p:nvPr/>
          </p:nvGrpSpPr>
          <p:grpSpPr>
            <a:xfrm>
              <a:off x="285840" y="2071800"/>
              <a:ext cx="8572680" cy="4286160"/>
              <a:chOff x="285840" y="2071800"/>
              <a:chExt cx="8572680" cy="4286160"/>
            </a:xfrm>
          </p:grpSpPr>
          <p:grpSp>
            <p:nvGrpSpPr>
              <p:cNvPr id="944" name="그룹 63"/>
              <p:cNvGrpSpPr/>
              <p:nvPr/>
            </p:nvGrpSpPr>
            <p:grpSpPr>
              <a:xfrm>
                <a:off x="285840" y="2071800"/>
                <a:ext cx="8572680" cy="4286160"/>
                <a:chOff x="285840" y="2071800"/>
                <a:chExt cx="8572680" cy="4286160"/>
              </a:xfrm>
            </p:grpSpPr>
            <p:grpSp>
              <p:nvGrpSpPr>
                <p:cNvPr id="945" name="그룹 91"/>
                <p:cNvGrpSpPr/>
                <p:nvPr/>
              </p:nvGrpSpPr>
              <p:grpSpPr>
                <a:xfrm>
                  <a:off x="285840" y="2274840"/>
                  <a:ext cx="8572680" cy="4083120"/>
                  <a:chOff x="285840" y="2274840"/>
                  <a:chExt cx="8572680" cy="4083120"/>
                </a:xfrm>
              </p:grpSpPr>
              <p:pic>
                <p:nvPicPr>
                  <p:cNvPr id="946" name="Picture 5" descr="233"/>
                  <p:cNvPicPr/>
                  <p:nvPr/>
                </p:nvPicPr>
                <p:blipFill>
                  <a:blip r:embed="rId3"/>
                  <a:srcRect l="0" t="0" r="24313" b="0"/>
                  <a:stretch/>
                </p:blipFill>
                <p:spPr>
                  <a:xfrm>
                    <a:off x="285840" y="2274840"/>
                    <a:ext cx="8501400" cy="4083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947" name="직사각형 69"/>
                  <p:cNvSpPr/>
                  <p:nvPr/>
                </p:nvSpPr>
                <p:spPr>
                  <a:xfrm>
                    <a:off x="1143000" y="2571480"/>
                    <a:ext cx="7715520" cy="2151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의미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제한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보를 짧은 시간 동안 파지하는 임시저장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2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특징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에 저장된 정보는 인식할 수 있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은 감각기억과 장기기억에서 전이된 정보로 구성된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의 기억범위는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7±2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항목이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(30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초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8" name="그룹 44"/>
                <p:cNvGrpSpPr/>
                <p:nvPr/>
              </p:nvGrpSpPr>
              <p:grpSpPr>
                <a:xfrm>
                  <a:off x="928440" y="2071800"/>
                  <a:ext cx="7574400" cy="551160"/>
                  <a:chOff x="928440" y="2071800"/>
                  <a:chExt cx="7574400" cy="551160"/>
                </a:xfrm>
              </p:grpSpPr>
              <p:grpSp>
                <p:nvGrpSpPr>
                  <p:cNvPr id="949" name="그룹 91"/>
                  <p:cNvGrpSpPr/>
                  <p:nvPr/>
                </p:nvGrpSpPr>
                <p:grpSpPr>
                  <a:xfrm>
                    <a:off x="928440" y="2071800"/>
                    <a:ext cx="4362840" cy="551160"/>
                    <a:chOff x="928440" y="2071800"/>
                    <a:chExt cx="4362840" cy="551160"/>
                  </a:xfrm>
                </p:grpSpPr>
                <p:grpSp>
                  <p:nvGrpSpPr>
                    <p:cNvPr id="950" name="그룹 34"/>
                    <p:cNvGrpSpPr/>
                    <p:nvPr/>
                  </p:nvGrpSpPr>
                  <p:grpSpPr>
                    <a:xfrm>
                      <a:off x="928440" y="2175840"/>
                      <a:ext cx="349200" cy="343800"/>
                      <a:chOff x="928440" y="2175840"/>
                      <a:chExt cx="349200" cy="343800"/>
                    </a:xfrm>
                  </p:grpSpPr>
                  <p:pic>
                    <p:nvPicPr>
                      <p:cNvPr id="951" name="Picture 177" descr="bull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928440" y="2182320"/>
                        <a:ext cx="349200" cy="33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952" name="TextBox 36"/>
                      <p:cNvSpPr/>
                      <p:nvPr/>
                    </p:nvSpPr>
                    <p:spPr>
                      <a:xfrm>
                        <a:off x="957960" y="217584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53" name="직사각형 65"/>
                    <p:cNvSpPr/>
                    <p:nvPr/>
                  </p:nvSpPr>
                  <p:spPr>
                    <a:xfrm>
                      <a:off x="1610640" y="2071800"/>
                      <a:ext cx="368064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기기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작업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short-term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memor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54" name="직선 연결선 63"/>
                  <p:cNvSpPr/>
                  <p:nvPr/>
                </p:nvSpPr>
                <p:spPr>
                  <a:xfrm flipV="1">
                    <a:off x="6286680" y="2344320"/>
                    <a:ext cx="2216160" cy="1260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5" name="타원 54"/>
              <p:cNvGrpSpPr/>
              <p:nvPr/>
            </p:nvGrpSpPr>
            <p:grpSpPr>
              <a:xfrm>
                <a:off x="932760" y="2730960"/>
                <a:ext cx="225360" cy="231480"/>
                <a:chOff x="932760" y="2730960"/>
                <a:chExt cx="225360" cy="231480"/>
              </a:xfrm>
            </p:grpSpPr>
            <p:pic>
              <p:nvPicPr>
                <p:cNvPr id="956" name="타원 5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32760" y="27309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7" name=""/>
                <p:cNvSpPr/>
                <p:nvPr/>
              </p:nvSpPr>
              <p:spPr>
                <a:xfrm rot="10800000">
                  <a:off x="1014480" y="27864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8" name="타원 57"/>
              <p:cNvGrpSpPr/>
              <p:nvPr/>
            </p:nvGrpSpPr>
            <p:grpSpPr>
              <a:xfrm>
                <a:off x="932760" y="3285720"/>
                <a:ext cx="225360" cy="231480"/>
                <a:chOff x="932760" y="3285720"/>
                <a:chExt cx="225360" cy="231480"/>
              </a:xfrm>
            </p:grpSpPr>
            <p:pic>
              <p:nvPicPr>
                <p:cNvPr id="959" name="타원 5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32857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0" name=""/>
                <p:cNvSpPr/>
                <p:nvPr/>
              </p:nvSpPr>
              <p:spPr>
                <a:xfrm rot="10800000">
                  <a:off x="1014480" y="33451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타원 81"/>
              <p:cNvGrpSpPr/>
              <p:nvPr/>
            </p:nvGrpSpPr>
            <p:grpSpPr>
              <a:xfrm>
                <a:off x="932760" y="5005080"/>
                <a:ext cx="225360" cy="231480"/>
                <a:chOff x="932760" y="5005080"/>
                <a:chExt cx="225360" cy="231480"/>
              </a:xfrm>
            </p:grpSpPr>
            <p:pic>
              <p:nvPicPr>
                <p:cNvPr id="962" name="타원 8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32760" y="50050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3" name=""/>
                <p:cNvSpPr/>
                <p:nvPr/>
              </p:nvSpPr>
              <p:spPr>
                <a:xfrm rot="10800000">
                  <a:off x="1014480" y="5060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4" name="직사각형 80"/>
            <p:cNvSpPr/>
            <p:nvPr/>
          </p:nvSpPr>
          <p:spPr>
            <a:xfrm>
              <a:off x="1143000" y="4805640"/>
              <a:ext cx="80010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기기억의 한계를 극복하는 방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군단위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큰 단위로 결합하는 과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FBINGOFIFAKOTRANYAPA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동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무의식 수준에서 처리할 수 있는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본연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운전기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6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6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68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7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7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5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그룹 173"/>
          <p:cNvGrpSpPr/>
          <p:nvPr/>
        </p:nvGrpSpPr>
        <p:grpSpPr>
          <a:xfrm>
            <a:off x="285840" y="2071800"/>
            <a:ext cx="8572320" cy="2357280"/>
            <a:chOff x="285840" y="2071800"/>
            <a:chExt cx="8572320" cy="2357280"/>
          </a:xfrm>
        </p:grpSpPr>
        <p:grpSp>
          <p:nvGrpSpPr>
            <p:cNvPr id="977" name="그룹 63"/>
            <p:cNvGrpSpPr/>
            <p:nvPr/>
          </p:nvGrpSpPr>
          <p:grpSpPr>
            <a:xfrm>
              <a:off x="285840" y="2071800"/>
              <a:ext cx="8572320" cy="2357280"/>
              <a:chOff x="285840" y="2071800"/>
              <a:chExt cx="8572320" cy="2357280"/>
            </a:xfrm>
          </p:grpSpPr>
          <p:grpSp>
            <p:nvGrpSpPr>
              <p:cNvPr id="978" name="그룹 91"/>
              <p:cNvGrpSpPr/>
              <p:nvPr/>
            </p:nvGrpSpPr>
            <p:grpSpPr>
              <a:xfrm>
                <a:off x="285840" y="2274840"/>
                <a:ext cx="8572320" cy="2154240"/>
                <a:chOff x="285840" y="2274840"/>
                <a:chExt cx="8572320" cy="2154240"/>
              </a:xfrm>
            </p:grpSpPr>
            <p:pic>
              <p:nvPicPr>
                <p:cNvPr id="97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748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80" name="직사각형 49"/>
                <p:cNvSpPr/>
                <p:nvPr/>
              </p:nvSpPr>
              <p:spPr>
                <a:xfrm>
                  <a:off x="1143000" y="26622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영구적인 기억저장고로 용량은 무제한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장기기억은 지식과 도식으로 개념화 되고 있다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 기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1" name="그룹 44"/>
              <p:cNvGrpSpPr/>
              <p:nvPr/>
            </p:nvGrpSpPr>
            <p:grpSpPr>
              <a:xfrm>
                <a:off x="928440" y="2071800"/>
                <a:ext cx="7574040" cy="551160"/>
                <a:chOff x="928440" y="2071800"/>
                <a:chExt cx="7574040" cy="551160"/>
              </a:xfrm>
            </p:grpSpPr>
            <p:grpSp>
              <p:nvGrpSpPr>
                <p:cNvPr id="982" name="그룹 91"/>
                <p:cNvGrpSpPr/>
                <p:nvPr/>
              </p:nvGrpSpPr>
              <p:grpSpPr>
                <a:xfrm>
                  <a:off x="928440" y="2071800"/>
                  <a:ext cx="3311640" cy="551160"/>
                  <a:chOff x="928440" y="2071800"/>
                  <a:chExt cx="3311640" cy="551160"/>
                </a:xfrm>
              </p:grpSpPr>
              <p:grpSp>
                <p:nvGrpSpPr>
                  <p:cNvPr id="983" name="그룹 34"/>
                  <p:cNvGrpSpPr/>
                  <p:nvPr/>
                </p:nvGrpSpPr>
                <p:grpSpPr>
                  <a:xfrm>
                    <a:off x="928440" y="2175840"/>
                    <a:ext cx="349200" cy="343800"/>
                    <a:chOff x="928440" y="2175840"/>
                    <a:chExt cx="349200" cy="343800"/>
                  </a:xfrm>
                </p:grpSpPr>
                <p:pic>
                  <p:nvPicPr>
                    <p:cNvPr id="98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82320"/>
                      <a:ext cx="349200" cy="33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85" name="TextBox 36"/>
                    <p:cNvSpPr/>
                    <p:nvPr/>
                  </p:nvSpPr>
                  <p:spPr>
                    <a:xfrm>
                      <a:off x="957960" y="21758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6" name="직사각형 45"/>
                  <p:cNvSpPr/>
                  <p:nvPr/>
                </p:nvSpPr>
                <p:spPr>
                  <a:xfrm>
                    <a:off x="1462680" y="2071800"/>
                    <a:ext cx="27774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장기기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long-term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mo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7" name="직선 연결선 43"/>
                <p:cNvSpPr/>
                <p:nvPr/>
              </p:nvSpPr>
              <p:spPr>
                <a:xfrm flipV="1">
                  <a:off x="6286320" y="234432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8" name="타원 39"/>
            <p:cNvGrpSpPr/>
            <p:nvPr/>
          </p:nvGrpSpPr>
          <p:grpSpPr>
            <a:xfrm>
              <a:off x="932760" y="2816280"/>
              <a:ext cx="225360" cy="231480"/>
              <a:chOff x="932760" y="2816280"/>
              <a:chExt cx="225360" cy="231480"/>
            </a:xfrm>
          </p:grpSpPr>
          <p:pic>
            <p:nvPicPr>
              <p:cNvPr id="989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0" name=""/>
              <p:cNvSpPr/>
              <p:nvPr/>
            </p:nvSpPr>
            <p:spPr>
              <a:xfrm rot="10800000">
                <a:off x="1014480" y="2871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1" name="타원 50"/>
            <p:cNvGrpSpPr/>
            <p:nvPr/>
          </p:nvGrpSpPr>
          <p:grpSpPr>
            <a:xfrm>
              <a:off x="932760" y="3529800"/>
              <a:ext cx="225360" cy="231480"/>
              <a:chOff x="932760" y="3529800"/>
              <a:chExt cx="225360" cy="231480"/>
            </a:xfrm>
          </p:grpSpPr>
          <p:pic>
            <p:nvPicPr>
              <p:cNvPr id="992" name="타원 50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52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 rot="10800000">
                <a:off x="1014480" y="358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4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9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7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0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0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그룹 63"/>
          <p:cNvGrpSpPr/>
          <p:nvPr/>
        </p:nvGrpSpPr>
        <p:grpSpPr>
          <a:xfrm>
            <a:off x="285840" y="2071800"/>
            <a:ext cx="8501040" cy="4429080"/>
            <a:chOff x="285840" y="2071800"/>
            <a:chExt cx="8501040" cy="4429080"/>
          </a:xfrm>
        </p:grpSpPr>
        <p:pic>
          <p:nvPicPr>
            <p:cNvPr id="1006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7484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7" name="그룹 44"/>
            <p:cNvGrpSpPr/>
            <p:nvPr/>
          </p:nvGrpSpPr>
          <p:grpSpPr>
            <a:xfrm>
              <a:off x="928440" y="2071800"/>
              <a:ext cx="7574040" cy="551160"/>
              <a:chOff x="928440" y="2071800"/>
              <a:chExt cx="7574040" cy="551160"/>
            </a:xfrm>
          </p:grpSpPr>
          <p:grpSp>
            <p:nvGrpSpPr>
              <p:cNvPr id="1008" name="그룹 91"/>
              <p:cNvGrpSpPr/>
              <p:nvPr/>
            </p:nvGrpSpPr>
            <p:grpSpPr>
              <a:xfrm>
                <a:off x="928440" y="2071800"/>
                <a:ext cx="3311640" cy="551160"/>
                <a:chOff x="928440" y="2071800"/>
                <a:chExt cx="3311640" cy="551160"/>
              </a:xfrm>
            </p:grpSpPr>
            <p:grpSp>
              <p:nvGrpSpPr>
                <p:cNvPr id="1009" name="그룹 34"/>
                <p:cNvGrpSpPr/>
                <p:nvPr/>
              </p:nvGrpSpPr>
              <p:grpSpPr>
                <a:xfrm>
                  <a:off x="928440" y="2175840"/>
                  <a:ext cx="349200" cy="343800"/>
                  <a:chOff x="928440" y="2175840"/>
                  <a:chExt cx="349200" cy="343800"/>
                </a:xfrm>
              </p:grpSpPr>
              <p:pic>
                <p:nvPicPr>
                  <p:cNvPr id="1010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82320"/>
                    <a:ext cx="349200" cy="3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1" name="TextBox 36"/>
                  <p:cNvSpPr/>
                  <p:nvPr/>
                </p:nvSpPr>
                <p:spPr>
                  <a:xfrm>
                    <a:off x="957960" y="2175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2" name="직사각형 45"/>
                <p:cNvSpPr/>
                <p:nvPr/>
              </p:nvSpPr>
              <p:spPr>
                <a:xfrm>
                  <a:off x="1462680" y="2071800"/>
                  <a:ext cx="27774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장기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long-term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memory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3" name="직선 연결선 43"/>
              <p:cNvSpPr/>
              <p:nvPr/>
            </p:nvSpPr>
            <p:spPr>
              <a:xfrm flipV="1">
                <a:off x="6286320" y="234432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4" name="그룹 51"/>
          <p:cNvGrpSpPr/>
          <p:nvPr/>
        </p:nvGrpSpPr>
        <p:grpSpPr>
          <a:xfrm>
            <a:off x="993600" y="2571840"/>
            <a:ext cx="7777440" cy="2712600"/>
            <a:chOff x="993600" y="2571840"/>
            <a:chExt cx="7777440" cy="2712600"/>
          </a:xfrm>
        </p:grpSpPr>
        <p:grpSp>
          <p:nvGrpSpPr>
            <p:cNvPr id="1015" name="그룹 142"/>
            <p:cNvGrpSpPr/>
            <p:nvPr/>
          </p:nvGrpSpPr>
          <p:grpSpPr>
            <a:xfrm>
              <a:off x="993600" y="2571840"/>
              <a:ext cx="1857240" cy="505440"/>
              <a:chOff x="993600" y="2571840"/>
              <a:chExt cx="1857240" cy="505440"/>
            </a:xfrm>
          </p:grpSpPr>
          <p:grpSp>
            <p:nvGrpSpPr>
              <p:cNvPr id="1016" name="그룹 97"/>
              <p:cNvGrpSpPr/>
              <p:nvPr/>
            </p:nvGrpSpPr>
            <p:grpSpPr>
              <a:xfrm>
                <a:off x="993600" y="2629800"/>
                <a:ext cx="295200" cy="338040"/>
                <a:chOff x="993600" y="2629800"/>
                <a:chExt cx="295200" cy="338040"/>
              </a:xfrm>
            </p:grpSpPr>
            <p:pic>
              <p:nvPicPr>
                <p:cNvPr id="1017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00080" y="2686680"/>
                  <a:ext cx="2836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8" name="TextBox 146"/>
                <p:cNvSpPr/>
                <p:nvPr/>
              </p:nvSpPr>
              <p:spPr>
                <a:xfrm>
                  <a:off x="993600" y="26298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9" name="직사각형 58"/>
              <p:cNvSpPr/>
              <p:nvPr/>
            </p:nvSpPr>
            <p:spPr>
              <a:xfrm>
                <a:off x="1158120" y="2571840"/>
                <a:ext cx="1692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knowledg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0" name="직선 연결선 53"/>
            <p:cNvSpPr/>
            <p:nvPr/>
          </p:nvSpPr>
          <p:spPr>
            <a:xfrm>
              <a:off x="448452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1" name="그룹 114"/>
            <p:cNvGrpSpPr/>
            <p:nvPr/>
          </p:nvGrpSpPr>
          <p:grpSpPr>
            <a:xfrm>
              <a:off x="1361880" y="3000240"/>
              <a:ext cx="7409160" cy="2284200"/>
              <a:chOff x="1361880" y="3000240"/>
              <a:chExt cx="7409160" cy="2284200"/>
            </a:xfrm>
          </p:grpSpPr>
          <p:sp>
            <p:nvSpPr>
              <p:cNvPr id="1022" name="직사각형 37"/>
              <p:cNvSpPr/>
              <p:nvPr/>
            </p:nvSpPr>
            <p:spPr>
              <a:xfrm>
                <a:off x="1599120" y="3000240"/>
                <a:ext cx="7171920" cy="22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언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실적인 정보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절차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행위를 수행하는 방식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건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 지식과 절차적 지식을 선택하고 활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왜 적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3" name="타원 56"/>
              <p:cNvGrpSpPr/>
              <p:nvPr/>
            </p:nvGrpSpPr>
            <p:grpSpPr>
              <a:xfrm>
                <a:off x="1361880" y="3145320"/>
                <a:ext cx="229320" cy="231480"/>
                <a:chOff x="1361880" y="3145320"/>
                <a:chExt cx="229320" cy="231480"/>
              </a:xfrm>
            </p:grpSpPr>
            <p:pic>
              <p:nvPicPr>
                <p:cNvPr id="1024" name="타원 5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145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5" name=""/>
                <p:cNvSpPr/>
                <p:nvPr/>
              </p:nvSpPr>
              <p:spPr>
                <a:xfrm rot="10800000">
                  <a:off x="1444680" y="3202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6" name="타원 57"/>
              <p:cNvGrpSpPr/>
              <p:nvPr/>
            </p:nvGrpSpPr>
            <p:grpSpPr>
              <a:xfrm>
                <a:off x="1361880" y="4602600"/>
                <a:ext cx="229320" cy="231480"/>
                <a:chOff x="1361880" y="4602600"/>
                <a:chExt cx="229320" cy="231480"/>
              </a:xfrm>
            </p:grpSpPr>
            <p:pic>
              <p:nvPicPr>
                <p:cNvPr id="1027" name="타원 5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602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8" name=""/>
                <p:cNvSpPr/>
                <p:nvPr/>
              </p:nvSpPr>
              <p:spPr>
                <a:xfrm rot="10800000">
                  <a:off x="1444680" y="4657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9" name="타원 61"/>
              <p:cNvGrpSpPr/>
              <p:nvPr/>
            </p:nvGrpSpPr>
            <p:grpSpPr>
              <a:xfrm>
                <a:off x="1361880" y="4956120"/>
                <a:ext cx="229320" cy="231480"/>
                <a:chOff x="1361880" y="4956120"/>
                <a:chExt cx="229320" cy="231480"/>
              </a:xfrm>
            </p:grpSpPr>
            <p:pic>
              <p:nvPicPr>
                <p:cNvPr id="1030" name="타원 6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9561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1" name=""/>
                <p:cNvSpPr/>
                <p:nvPr/>
              </p:nvSpPr>
              <p:spPr>
                <a:xfrm rot="10800000">
                  <a:off x="1444680" y="50148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2" name="그룹 54"/>
          <p:cNvGrpSpPr/>
          <p:nvPr/>
        </p:nvGrpSpPr>
        <p:grpSpPr>
          <a:xfrm>
            <a:off x="1714680" y="3440160"/>
            <a:ext cx="7429320" cy="839160"/>
            <a:chOff x="1714680" y="3440160"/>
            <a:chExt cx="7429320" cy="839160"/>
          </a:xfrm>
        </p:grpSpPr>
        <p:sp>
          <p:nvSpPr>
            <p:cNvPr id="1033" name="직사각형 37"/>
            <p:cNvSpPr/>
            <p:nvPr/>
          </p:nvSpPr>
          <p:spPr>
            <a:xfrm>
              <a:off x="1904760" y="3455280"/>
              <a:ext cx="7239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과에서 학습한 사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법칙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리에 대한 지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화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적 경험에 대한 기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직사각형 37"/>
            <p:cNvSpPr/>
            <p:nvPr/>
          </p:nvSpPr>
          <p:spPr>
            <a:xfrm>
              <a:off x="1714680" y="3440160"/>
              <a:ext cx="285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51"/>
          <p:cNvGrpSpPr/>
          <p:nvPr/>
        </p:nvGrpSpPr>
        <p:grpSpPr>
          <a:xfrm>
            <a:off x="996840" y="5357880"/>
            <a:ext cx="7774200" cy="824040"/>
            <a:chOff x="996840" y="5357880"/>
            <a:chExt cx="7774200" cy="824040"/>
          </a:xfrm>
        </p:grpSpPr>
        <p:grpSp>
          <p:nvGrpSpPr>
            <p:cNvPr id="1036" name="그룹 142"/>
            <p:cNvGrpSpPr/>
            <p:nvPr/>
          </p:nvGrpSpPr>
          <p:grpSpPr>
            <a:xfrm>
              <a:off x="996840" y="5357880"/>
              <a:ext cx="1566360" cy="505440"/>
              <a:chOff x="996840" y="5357880"/>
              <a:chExt cx="1566360" cy="505440"/>
            </a:xfrm>
          </p:grpSpPr>
          <p:grpSp>
            <p:nvGrpSpPr>
              <p:cNvPr id="1037" name="그룹 97"/>
              <p:cNvGrpSpPr/>
              <p:nvPr/>
            </p:nvGrpSpPr>
            <p:grpSpPr>
              <a:xfrm>
                <a:off x="996840" y="5415840"/>
                <a:ext cx="305640" cy="338760"/>
                <a:chOff x="996840" y="5415840"/>
                <a:chExt cx="305640" cy="338760"/>
              </a:xfrm>
            </p:grpSpPr>
            <p:pic>
              <p:nvPicPr>
                <p:cNvPr id="1038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472720"/>
                  <a:ext cx="28620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9" name="TextBox 146"/>
                <p:cNvSpPr/>
                <p:nvPr/>
              </p:nvSpPr>
              <p:spPr>
                <a:xfrm>
                  <a:off x="996840" y="5415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0" name="직사각형 41"/>
              <p:cNvSpPr/>
              <p:nvPr/>
            </p:nvSpPr>
            <p:spPr>
              <a:xfrm>
                <a:off x="1178280" y="5357880"/>
                <a:ext cx="138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도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chem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직선 연결선 36"/>
            <p:cNvSpPr/>
            <p:nvPr/>
          </p:nvSpPr>
          <p:spPr>
            <a:xfrm>
              <a:off x="4484520" y="5643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2" name="그룹 114"/>
            <p:cNvGrpSpPr/>
            <p:nvPr/>
          </p:nvGrpSpPr>
          <p:grpSpPr>
            <a:xfrm>
              <a:off x="1361880" y="5722920"/>
              <a:ext cx="7409160" cy="459000"/>
              <a:chOff x="1361880" y="5722920"/>
              <a:chExt cx="7409160" cy="459000"/>
            </a:xfrm>
          </p:grpSpPr>
          <p:sp>
            <p:nvSpPr>
              <p:cNvPr id="1043" name="직사각형 37"/>
              <p:cNvSpPr/>
              <p:nvPr/>
            </p:nvSpPr>
            <p:spPr>
              <a:xfrm>
                <a:off x="1599120" y="57229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많은 정보를 유의미한 범주로 조직하는 인지구조 혹은 지식구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4" name="타원 39"/>
              <p:cNvGrpSpPr/>
              <p:nvPr/>
            </p:nvGrpSpPr>
            <p:grpSpPr>
              <a:xfrm>
                <a:off x="1361880" y="5864400"/>
                <a:ext cx="229320" cy="237960"/>
                <a:chOff x="1361880" y="5864400"/>
                <a:chExt cx="229320" cy="237960"/>
              </a:xfrm>
            </p:grpSpPr>
            <p:pic>
              <p:nvPicPr>
                <p:cNvPr id="1045" name="타원 39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64400"/>
                  <a:ext cx="22932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6" name=""/>
                <p:cNvSpPr/>
                <p:nvPr/>
              </p:nvSpPr>
              <p:spPr>
                <a:xfrm rot="10800000">
                  <a:off x="1444680" y="5924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8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50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직선 연결선 2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7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8" name="그룹 39"/>
          <p:cNvGrpSpPr/>
          <p:nvPr/>
        </p:nvGrpSpPr>
        <p:grpSpPr>
          <a:xfrm>
            <a:off x="642960" y="2031840"/>
            <a:ext cx="8072280" cy="1968840"/>
            <a:chOff x="642960" y="2031840"/>
            <a:chExt cx="8072280" cy="1968840"/>
          </a:xfrm>
        </p:grpSpPr>
        <p:grpSp>
          <p:nvGrpSpPr>
            <p:cNvPr id="1059" name="그룹 123"/>
            <p:cNvGrpSpPr/>
            <p:nvPr/>
          </p:nvGrpSpPr>
          <p:grpSpPr>
            <a:xfrm>
              <a:off x="642960" y="2031840"/>
              <a:ext cx="8072280" cy="1968840"/>
              <a:chOff x="642960" y="2031840"/>
              <a:chExt cx="8072280" cy="1968840"/>
            </a:xfrm>
          </p:grpSpPr>
          <p:pic>
            <p:nvPicPr>
              <p:cNvPr id="106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71440"/>
                <a:ext cx="8072280" cy="1929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61" name="직사각형 31"/>
              <p:cNvSpPr/>
              <p:nvPr/>
            </p:nvSpPr>
            <p:spPr>
              <a:xfrm>
                <a:off x="928440" y="2031840"/>
                <a:ext cx="77868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은 특정 기억체계에 저장된 정보를 다른 기억체계로 전이시키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한 정신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 기억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으로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은 정보를 부호화하고 저장하며 인출하기 위해 사용하는 정신활동으로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 등이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2" name="타원 33"/>
              <p:cNvGrpSpPr/>
              <p:nvPr/>
            </p:nvGrpSpPr>
            <p:grpSpPr>
              <a:xfrm>
                <a:off x="908280" y="2316240"/>
                <a:ext cx="225360" cy="231480"/>
                <a:chOff x="908280" y="2316240"/>
                <a:chExt cx="225360" cy="231480"/>
              </a:xfrm>
            </p:grpSpPr>
            <p:pic>
              <p:nvPicPr>
                <p:cNvPr id="1063" name="타원 3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3162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4" name=""/>
                <p:cNvSpPr/>
                <p:nvPr/>
              </p:nvSpPr>
              <p:spPr>
                <a:xfrm rot="10800000">
                  <a:off x="987480" y="2371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65" name="타원 29"/>
            <p:cNvGrpSpPr/>
            <p:nvPr/>
          </p:nvGrpSpPr>
          <p:grpSpPr>
            <a:xfrm>
              <a:off x="908280" y="3145680"/>
              <a:ext cx="225360" cy="231480"/>
              <a:chOff x="908280" y="3145680"/>
              <a:chExt cx="225360" cy="231480"/>
            </a:xfrm>
          </p:grpSpPr>
          <p:pic>
            <p:nvPicPr>
              <p:cNvPr id="1066" name="타원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7" name=""/>
              <p:cNvSpPr/>
              <p:nvPr/>
            </p:nvSpPr>
            <p:spPr>
              <a:xfrm rot="10800000">
                <a:off x="987480" y="3202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8" name="그룹 173"/>
          <p:cNvGrpSpPr/>
          <p:nvPr/>
        </p:nvGrpSpPr>
        <p:grpSpPr>
          <a:xfrm>
            <a:off x="285840" y="4071960"/>
            <a:ext cx="8572320" cy="2357280"/>
            <a:chOff x="285840" y="4071960"/>
            <a:chExt cx="8572320" cy="2357280"/>
          </a:xfrm>
        </p:grpSpPr>
        <p:grpSp>
          <p:nvGrpSpPr>
            <p:cNvPr id="1069" name="그룹 63"/>
            <p:cNvGrpSpPr/>
            <p:nvPr/>
          </p:nvGrpSpPr>
          <p:grpSpPr>
            <a:xfrm>
              <a:off x="285840" y="4071960"/>
              <a:ext cx="8572320" cy="2357280"/>
              <a:chOff x="285840" y="4071960"/>
              <a:chExt cx="8572320" cy="2357280"/>
            </a:xfrm>
          </p:grpSpPr>
          <p:grpSp>
            <p:nvGrpSpPr>
              <p:cNvPr id="1070" name="그룹 91"/>
              <p:cNvGrpSpPr/>
              <p:nvPr/>
            </p:nvGrpSpPr>
            <p:grpSpPr>
              <a:xfrm>
                <a:off x="285840" y="4275360"/>
                <a:ext cx="8572320" cy="2153880"/>
                <a:chOff x="285840" y="4275360"/>
                <a:chExt cx="8572320" cy="2153880"/>
              </a:xfrm>
            </p:grpSpPr>
            <p:pic>
              <p:nvPicPr>
                <p:cNvPr id="1071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275360"/>
                  <a:ext cx="8501040" cy="2153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2" name="직사각형 47"/>
                <p:cNvSpPr/>
                <p:nvPr/>
              </p:nvSpPr>
              <p:spPr>
                <a:xfrm>
                  <a:off x="1143000" y="457200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감각기억에 파지된 수많은 정보 중에서 특정정보를 선택하는 인지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선택적 주의집중은 칵테일 파티효과에서 잘 입증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분 청취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주의는 학습의 필수요건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3" name="그룹 44"/>
              <p:cNvGrpSpPr/>
              <p:nvPr/>
            </p:nvGrpSpPr>
            <p:grpSpPr>
              <a:xfrm>
                <a:off x="928440" y="4071960"/>
                <a:ext cx="7574040" cy="551160"/>
                <a:chOff x="928440" y="4071960"/>
                <a:chExt cx="7574040" cy="551160"/>
              </a:xfrm>
            </p:grpSpPr>
            <p:grpSp>
              <p:nvGrpSpPr>
                <p:cNvPr id="1074" name="그룹 91"/>
                <p:cNvGrpSpPr/>
                <p:nvPr/>
              </p:nvGrpSpPr>
              <p:grpSpPr>
                <a:xfrm>
                  <a:off x="928440" y="4071960"/>
                  <a:ext cx="1917360" cy="551160"/>
                  <a:chOff x="928440" y="4071960"/>
                  <a:chExt cx="1917360" cy="551160"/>
                </a:xfrm>
              </p:grpSpPr>
              <p:grpSp>
                <p:nvGrpSpPr>
                  <p:cNvPr id="1075" name="그룹 34"/>
                  <p:cNvGrpSpPr/>
                  <p:nvPr/>
                </p:nvGrpSpPr>
                <p:grpSpPr>
                  <a:xfrm>
                    <a:off x="928440" y="4176000"/>
                    <a:ext cx="349200" cy="343800"/>
                    <a:chOff x="928440" y="4176000"/>
                    <a:chExt cx="349200" cy="343800"/>
                  </a:xfrm>
                </p:grpSpPr>
                <p:pic>
                  <p:nvPicPr>
                    <p:cNvPr id="1076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181760"/>
                      <a:ext cx="349200" cy="33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77" name="TextBox 36"/>
                    <p:cNvSpPr/>
                    <p:nvPr/>
                  </p:nvSpPr>
                  <p:spPr>
                    <a:xfrm>
                      <a:off x="957960" y="41760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8" name="직사각형 43"/>
                  <p:cNvSpPr/>
                  <p:nvPr/>
                </p:nvSpPr>
                <p:spPr>
                  <a:xfrm>
                    <a:off x="1305720" y="4071960"/>
                    <a:ext cx="1540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tten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9" name="직선 연결선 41"/>
                <p:cNvSpPr/>
                <p:nvPr/>
              </p:nvSpPr>
              <p:spPr>
                <a:xfrm flipV="1">
                  <a:off x="6286320" y="434484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0" name="타원 37"/>
            <p:cNvGrpSpPr/>
            <p:nvPr/>
          </p:nvGrpSpPr>
          <p:grpSpPr>
            <a:xfrm>
              <a:off x="932760" y="4730400"/>
              <a:ext cx="225360" cy="231480"/>
              <a:chOff x="932760" y="4730400"/>
              <a:chExt cx="225360" cy="231480"/>
            </a:xfrm>
          </p:grpSpPr>
          <p:pic>
            <p:nvPicPr>
              <p:cNvPr id="1081" name="타원 37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730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 rot="10800000">
                <a:off x="1014480" y="4786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타원 48"/>
            <p:cNvGrpSpPr/>
            <p:nvPr/>
          </p:nvGrpSpPr>
          <p:grpSpPr>
            <a:xfrm>
              <a:off x="932760" y="5169240"/>
              <a:ext cx="225360" cy="231480"/>
              <a:chOff x="932760" y="5169240"/>
              <a:chExt cx="225360" cy="231480"/>
            </a:xfrm>
          </p:grpSpPr>
          <p:pic>
            <p:nvPicPr>
              <p:cNvPr id="1084" name="타원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169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 rot="10800000">
                <a:off x="1014480" y="5229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87" name="그룹 173"/>
          <p:cNvGrpSpPr/>
          <p:nvPr/>
        </p:nvGrpSpPr>
        <p:grpSpPr>
          <a:xfrm>
            <a:off x="285840" y="1928880"/>
            <a:ext cx="8572320" cy="4143240"/>
            <a:chOff x="285840" y="1928880"/>
            <a:chExt cx="8572320" cy="4143240"/>
          </a:xfrm>
        </p:grpSpPr>
        <p:grpSp>
          <p:nvGrpSpPr>
            <p:cNvPr id="1088" name="그룹 63"/>
            <p:cNvGrpSpPr/>
            <p:nvPr/>
          </p:nvGrpSpPr>
          <p:grpSpPr>
            <a:xfrm>
              <a:off x="285840" y="1928880"/>
              <a:ext cx="8572320" cy="4143240"/>
              <a:chOff x="285840" y="1928880"/>
              <a:chExt cx="8572320" cy="4143240"/>
            </a:xfrm>
          </p:grpSpPr>
          <p:grpSp>
            <p:nvGrpSpPr>
              <p:cNvPr id="1089" name="그룹 91"/>
              <p:cNvGrpSpPr/>
              <p:nvPr/>
            </p:nvGrpSpPr>
            <p:grpSpPr>
              <a:xfrm>
                <a:off x="285840" y="2132280"/>
                <a:ext cx="8572320" cy="3939840"/>
                <a:chOff x="285840" y="2132280"/>
                <a:chExt cx="8572320" cy="3939840"/>
              </a:xfrm>
            </p:grpSpPr>
            <p:pic>
              <p:nvPicPr>
                <p:cNvPr id="109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2280"/>
                  <a:ext cx="8501040" cy="3939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1" name="직사각형 55"/>
                <p:cNvSpPr/>
                <p:nvPr/>
              </p:nvSpPr>
              <p:spPr>
                <a:xfrm>
                  <a:off x="1143000" y="2428920"/>
                  <a:ext cx="7715160" cy="33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원래 형태 그대로 소리 내어 읽거나 속으로 반복하는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작업기억에 정보를 파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단기기억의 정보를 장기기억으로 전이시킨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과 기억은 비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열위치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초두성과 신근성 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집중적인 시연보다 여러 차례 시연하는 분산학습이 효과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의 적극적 시연은 기억을 촉진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2" name="그룹 44"/>
              <p:cNvGrpSpPr/>
              <p:nvPr/>
            </p:nvGrpSpPr>
            <p:grpSpPr>
              <a:xfrm>
                <a:off x="928440" y="1928880"/>
                <a:ext cx="7574040" cy="1144440"/>
                <a:chOff x="928440" y="1928880"/>
                <a:chExt cx="7574040" cy="1144440"/>
              </a:xfrm>
            </p:grpSpPr>
            <p:grpSp>
              <p:nvGrpSpPr>
                <p:cNvPr id="1093" name="그룹 91"/>
                <p:cNvGrpSpPr/>
                <p:nvPr/>
              </p:nvGrpSpPr>
              <p:grpSpPr>
                <a:xfrm>
                  <a:off x="928440" y="1928880"/>
                  <a:ext cx="1944360" cy="551160"/>
                  <a:chOff x="928440" y="1928880"/>
                  <a:chExt cx="1944360" cy="551160"/>
                </a:xfrm>
              </p:grpSpPr>
              <p:grpSp>
                <p:nvGrpSpPr>
                  <p:cNvPr id="1094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09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6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97" name="직사각형 51"/>
                  <p:cNvSpPr/>
                  <p:nvPr/>
                </p:nvSpPr>
                <p:spPr>
                  <a:xfrm>
                    <a:off x="1305360" y="1928880"/>
                    <a:ext cx="1567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시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hears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8" name="직선 연결선 49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직선 연결선 64"/>
                <p:cNvSpPr/>
                <p:nvPr/>
              </p:nvSpPr>
              <p:spPr>
                <a:xfrm>
                  <a:off x="3285720" y="3071880"/>
                  <a:ext cx="52167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0" name="타원 39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01" name="타원 3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2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타원 40"/>
            <p:cNvGrpSpPr/>
            <p:nvPr/>
          </p:nvGrpSpPr>
          <p:grpSpPr>
            <a:xfrm>
              <a:off x="932760" y="3029760"/>
              <a:ext cx="225360" cy="231480"/>
              <a:chOff x="932760" y="3029760"/>
              <a:chExt cx="225360" cy="231480"/>
            </a:xfrm>
          </p:grpSpPr>
          <p:pic>
            <p:nvPicPr>
              <p:cNvPr id="1104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5" name=""/>
              <p:cNvSpPr/>
              <p:nvPr/>
            </p:nvSpPr>
            <p:spPr>
              <a:xfrm rot="10800000">
                <a:off x="101448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6" name="타원 66"/>
            <p:cNvGrpSpPr/>
            <p:nvPr/>
          </p:nvGrpSpPr>
          <p:grpSpPr>
            <a:xfrm>
              <a:off x="932760" y="4242960"/>
              <a:ext cx="225360" cy="231480"/>
              <a:chOff x="932760" y="4242960"/>
              <a:chExt cx="225360" cy="231480"/>
            </a:xfrm>
          </p:grpSpPr>
          <p:pic>
            <p:nvPicPr>
              <p:cNvPr id="1107" name="타원 66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424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8" name=""/>
              <p:cNvSpPr/>
              <p:nvPr/>
            </p:nvSpPr>
            <p:spPr>
              <a:xfrm rot="10800000">
                <a:off x="1014480" y="4300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9" name="타원 67"/>
            <p:cNvGrpSpPr/>
            <p:nvPr/>
          </p:nvGrpSpPr>
          <p:grpSpPr>
            <a:xfrm>
              <a:off x="1218960" y="3456360"/>
              <a:ext cx="225360" cy="231480"/>
              <a:chOff x="1218960" y="3456360"/>
              <a:chExt cx="225360" cy="231480"/>
            </a:xfrm>
          </p:grpSpPr>
          <p:pic>
            <p:nvPicPr>
              <p:cNvPr id="1110" name="타원 67" descr=""/>
              <p:cNvPicPr/>
              <p:nvPr/>
            </p:nvPicPr>
            <p:blipFill>
              <a:blip r:embed="rId7"/>
              <a:stretch/>
            </p:blipFill>
            <p:spPr>
              <a:xfrm>
                <a:off x="1218960" y="3456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299960" y="351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2" name="타원 68"/>
            <p:cNvGrpSpPr/>
            <p:nvPr/>
          </p:nvGrpSpPr>
          <p:grpSpPr>
            <a:xfrm>
              <a:off x="1218960" y="3816000"/>
              <a:ext cx="225360" cy="231480"/>
              <a:chOff x="1218960" y="3816000"/>
              <a:chExt cx="225360" cy="231480"/>
            </a:xfrm>
          </p:grpSpPr>
          <p:pic>
            <p:nvPicPr>
              <p:cNvPr id="1113" name="타원 68" descr=""/>
              <p:cNvPicPr/>
              <p:nvPr/>
            </p:nvPicPr>
            <p:blipFill>
              <a:blip r:embed="rId8"/>
              <a:stretch/>
            </p:blipFill>
            <p:spPr>
              <a:xfrm>
                <a:off x="121896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4" name=""/>
              <p:cNvSpPr/>
              <p:nvPr/>
            </p:nvSpPr>
            <p:spPr>
              <a:xfrm rot="10800000">
                <a:off x="129996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직선 연결선 6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22" name="Freeform 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8T01:16:06Z</dcterms:modified>
  <cp:revision>410</cp:revision>
  <dc:subject/>
  <dc:title>PowerPoint Template</dc:title>
</cp:coreProperties>
</file>